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135813" cy="9377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135200" cy="9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21840" y="703080"/>
            <a:ext cx="4691160" cy="35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50400" y="4454280"/>
            <a:ext cx="5234040" cy="4221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235C80C-1128-440A-9BD9-889B189FA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B3B349-8767-4871-B1A6-19964C7EE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0F5A77-1FA9-4756-9938-F837CC80E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8F5CF52-0BC3-4CD6-AA8D-2C67D554D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046BF9D-9FA4-4323-A620-57C6C5F26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604097E-E4F3-4FF2-8DCD-821B88B23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B9DA9F7-B941-434F-A989-690FD49FB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2022F1-F0C5-48C0-AD58-E450B33A6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CE29572-3C0F-4EE4-8EDB-1508AB7EA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A3E407F-0028-4A7A-A1C7-361E08746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CD9599C-FA89-400F-884F-D90EB567A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7D31C1-4B2F-401C-BA2E-A9C13DED1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5DD9F29-866A-4C9B-A14F-79E235C73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C30DBB-6DA9-4501-85E8-74B5AF20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E4A004-913C-470B-94A8-7C51FD230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54779FD-84BE-433B-BDB0-101DB3FD8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18463D6-CC60-41D2-9052-F43D97274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8DBD82-ADAF-4939-9D00-25E4CD1EB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1024EB2-31E4-49DB-98D5-54A89983E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25C085D-EBEB-49A1-BF7E-FDE63BC6C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F617DE-6A8B-49B0-A9C6-E39A77F9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E49CED-D090-4591-BD82-9EA65B1DA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3865674-AC8C-4BE1-A39D-8C4FAFA8A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968378C-7FBA-4CEA-8AEA-7214A5BA0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576360" y="368280"/>
            <a:ext cx="3278160" cy="24591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282240" y="3018960"/>
            <a:ext cx="6496200" cy="59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s are faced with new and bigger problems managing their data.  They need to have data available when, where and how it’s needed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, they are faced with increasing costs and fewer people to manage the data.....yet protecting data is cri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q has products available to help solve these customer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33EF35-BCB1-4E8D-9B63-F237325F1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1CB16F1-43DA-4D5E-BEA7-16F821173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915423-CE61-45F9-BCC4-546A792EA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F9504E1-F6EA-4DC5-A643-5E8838BA4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0AEEC9-8DAE-44BE-84B4-EBCF3F9B2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84EAFB8-2713-46F9-A1F1-6D90CC14B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6B101B9-B16B-4962-BC2E-36C7F1026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8FAAE2-695D-4FD2-9D45-5CDD93974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3520"/>
                <a:tab algn="l" pos="2327400"/>
                <a:tab algn="l" pos="3490920"/>
                <a:tab algn="l" pos="4654440"/>
                <a:tab algn="l" pos="5818320"/>
                <a:tab algn="l" pos="6981840"/>
                <a:tab algn="l" pos="8145360"/>
                <a:tab algn="l" pos="9309240"/>
                <a:tab algn="l" pos="10472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89514A0-F99A-4D37-B4B1-A0F3D8BB9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3520"/>
                <a:tab algn="l" pos="2327400"/>
                <a:tab algn="l" pos="3490920"/>
                <a:tab algn="l" pos="4654440"/>
                <a:tab algn="l" pos="5818320"/>
                <a:tab algn="l" pos="6981840"/>
                <a:tab algn="l" pos="8145360"/>
                <a:tab algn="l" pos="9309240"/>
                <a:tab algn="l" pos="10472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A79A53F-7B20-475C-A23B-1926BFF4A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222200" y="703440"/>
            <a:ext cx="4691160" cy="35175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50400" y="4454280"/>
            <a:ext cx="52340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0B6CB00-2A89-4990-BEFD-3320595E6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28DC47A-B738-4FE4-9446-8F045BB89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F8E2C0B-B45A-4781-8450-6941EA703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5D32522-8887-4D54-B793-97DFDDB96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6A86C1B-68BE-4E93-BC55-07FC9E0FE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F71A4DC-B509-42AF-9878-EA22309B8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79912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9400" y="4554360"/>
            <a:ext cx="79912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4400" y="254304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9400" y="455436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0" y="455436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25729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51200" y="2543040"/>
            <a:ext cx="25729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3360" y="2543040"/>
            <a:ext cx="25729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9400" y="4554360"/>
            <a:ext cx="25729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51200" y="4554360"/>
            <a:ext cx="25729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3360" y="4554360"/>
            <a:ext cx="25729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9400" y="2543040"/>
            <a:ext cx="79912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79912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389952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4400" y="2543040"/>
            <a:ext cx="389952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58760" y="760320"/>
            <a:ext cx="803592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400" y="2543040"/>
            <a:ext cx="389952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9400" y="455436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389952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400" y="254304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0" y="455436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0" y="254304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9400" y="4554360"/>
            <a:ext cx="79912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9400" y="2543040"/>
            <a:ext cx="79912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4292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9480" indent="-177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7040" indent="-163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7040" indent="-163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7040" indent="-163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8160" y="6426360"/>
            <a:ext cx="1409760" cy="349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003480" y="6464160"/>
            <a:ext cx="3137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it really matter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3733920" y="228600"/>
          <a:ext cx="1904760" cy="538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28600"/>
                    <a:ext cx="19047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8002800" y="640080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C272D1-F3F7-4674-9AD9-EF2A9671B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4720" y="2895480"/>
            <a:ext cx="6842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nterprise Backup for OpenV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8760" y="4800600"/>
            <a:ext cx="289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yan C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 &amp; Marketing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VMS Storag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24240" y="4800600"/>
            <a:ext cx="201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al Storage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ado Sp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uary 14th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7720" y="2133360"/>
            <a:ext cx="799164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Version 2.9B (Feb 199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hardware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VMS V7.1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2000 Compli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VMS Versions 5.5-2 to 7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VM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ear to set 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orage Library System (S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03592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ystem for OpenVM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99128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Next Generation” of S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files or disk in VMS SaveSet format by using an “enhanced” version of Backup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Oracle RDB databases using R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762120" y="2209680"/>
            <a:ext cx="79912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n around since 1995, but it was just a toy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ode ba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“automation” capabilities includ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o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OpenVMS, Windows NT, and 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838080" y="761760"/>
            <a:ext cx="803592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ystem (AB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09120" y="1904760"/>
            <a:ext cx="793116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87000"/>
          </a:bodyPr>
          <a:p>
            <a:pPr marL="256680" indent="-256680">
              <a:lnSpc>
                <a:spcPct val="95000"/>
              </a:lnSpc>
              <a:spcBef>
                <a:spcPts val="1100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enVMS backup, restore and archive to the enterpri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5000"/>
              </a:lnSpc>
              <a:spcBef>
                <a:spcPts val="1100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ides automated backu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VMS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VMS, UNIX, &amp; Windows NT cl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s media and device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cy driven operations, robust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native file formats for disaster tole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ized administration from easy to use GU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5000"/>
              </a:lnSpc>
              <a:spcBef>
                <a:spcPts val="1100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cost and time in managing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operation is the best guarantee that backups are done consist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cataloging to ensure quick rest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66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838080" y="761760"/>
            <a:ext cx="803592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ystem (AB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1981080"/>
            <a:ext cx="5334120" cy="2743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9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BS - OpenVMS Storage Management for the Enterprise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01960" y="3112920"/>
            <a:ext cx="741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1600" y="3624120"/>
            <a:ext cx="1049040" cy="824040"/>
          </a:xfrm>
          <a:prstGeom prst="rect">
            <a:avLst/>
          </a:prstGeom>
          <a:solidFill>
            <a:srgbClr val="95a7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12840" y="396252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798720" y="3125880"/>
            <a:ext cx="1124280" cy="75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859040" y="2973240"/>
            <a:ext cx="958680" cy="61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477120" y="3048120"/>
            <a:ext cx="641880" cy="662040"/>
            <a:chOff x="6477120" y="3048120"/>
            <a:chExt cx="641880" cy="662040"/>
          </a:xfrm>
        </p:grpSpPr>
        <p:sp>
          <p:nvSpPr>
            <p:cNvPr id="354" name=""/>
            <p:cNvSpPr/>
            <p:nvPr/>
          </p:nvSpPr>
          <p:spPr>
            <a:xfrm>
              <a:off x="6477120" y="3048120"/>
              <a:ext cx="598320" cy="662040"/>
            </a:xfrm>
            <a:prstGeom prst="rect">
              <a:avLst/>
            </a:prstGeom>
            <a:solidFill>
              <a:srgbClr val="95a7d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78200" y="3124080"/>
              <a:ext cx="640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M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019920" y="3581280"/>
            <a:ext cx="641880" cy="650880"/>
            <a:chOff x="6019920" y="3581280"/>
            <a:chExt cx="641880" cy="650880"/>
          </a:xfrm>
        </p:grpSpPr>
        <p:sp>
          <p:nvSpPr>
            <p:cNvPr id="357" name=""/>
            <p:cNvSpPr/>
            <p:nvPr/>
          </p:nvSpPr>
          <p:spPr>
            <a:xfrm>
              <a:off x="6019920" y="3581280"/>
              <a:ext cx="636480" cy="650880"/>
            </a:xfrm>
            <a:prstGeom prst="rect">
              <a:avLst/>
            </a:prstGeom>
            <a:solidFill>
              <a:srgbClr val="95a7d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21000" y="3657600"/>
              <a:ext cx="640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M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286000" y="5486400"/>
            <a:ext cx="990720" cy="911520"/>
            <a:chOff x="2286000" y="5486400"/>
            <a:chExt cx="990720" cy="911520"/>
          </a:xfrm>
        </p:grpSpPr>
        <p:sp>
          <p:nvSpPr>
            <p:cNvPr id="360" name=""/>
            <p:cNvSpPr/>
            <p:nvPr/>
          </p:nvSpPr>
          <p:spPr>
            <a:xfrm>
              <a:off x="2286000" y="5486400"/>
              <a:ext cx="990720" cy="746280"/>
            </a:xfrm>
            <a:prstGeom prst="rect">
              <a:avLst/>
            </a:prstGeom>
            <a:solidFill>
              <a:srgbClr val="25ca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2382840" y="5530680"/>
              <a:ext cx="838080" cy="867240"/>
              <a:chOff x="2382840" y="5530680"/>
              <a:chExt cx="838080" cy="867240"/>
            </a:xfrm>
          </p:grpSpPr>
          <p:sp>
            <p:nvSpPr>
              <p:cNvPr id="362" name=""/>
              <p:cNvSpPr/>
              <p:nvPr/>
            </p:nvSpPr>
            <p:spPr>
              <a:xfrm>
                <a:off x="2382840" y="5530680"/>
                <a:ext cx="733320" cy="63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424600" y="5575320"/>
                <a:ext cx="79632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unOS/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olar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" name=""/>
          <p:cNvGrpSpPr/>
          <p:nvPr/>
        </p:nvGrpSpPr>
        <p:grpSpPr>
          <a:xfrm>
            <a:off x="4896000" y="2371680"/>
            <a:ext cx="1381320" cy="809640"/>
            <a:chOff x="4896000" y="2371680"/>
            <a:chExt cx="1381320" cy="809640"/>
          </a:xfrm>
        </p:grpSpPr>
        <p:sp>
          <p:nvSpPr>
            <p:cNvPr id="365" name=""/>
            <p:cNvSpPr/>
            <p:nvPr/>
          </p:nvSpPr>
          <p:spPr>
            <a:xfrm>
              <a:off x="4933800" y="2371680"/>
              <a:ext cx="1297080" cy="809640"/>
            </a:xfrm>
            <a:prstGeom prst="rect">
              <a:avLst/>
            </a:prstGeom>
            <a:solidFill>
              <a:srgbClr val="95a7d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96000" y="2486160"/>
              <a:ext cx="1381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ave/Rest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666880" y="2590920"/>
            <a:ext cx="1244880" cy="505800"/>
            <a:chOff x="2666880" y="2590920"/>
            <a:chExt cx="1244880" cy="505800"/>
          </a:xfrm>
        </p:grpSpPr>
        <p:sp>
          <p:nvSpPr>
            <p:cNvPr id="368" name=""/>
            <p:cNvSpPr/>
            <p:nvPr/>
          </p:nvSpPr>
          <p:spPr>
            <a:xfrm>
              <a:off x="2666880" y="2590920"/>
              <a:ext cx="1244880" cy="488880"/>
            </a:xfrm>
            <a:prstGeom prst="ellipse">
              <a:avLst/>
            </a:prstGeom>
            <a:solidFill>
              <a:srgbClr val="896a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21240" y="2638440"/>
              <a:ext cx="116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tal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>
            <a:off x="3940200" y="281952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49960" y="2819520"/>
            <a:ext cx="1819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5486400"/>
            <a:ext cx="1066680" cy="762120"/>
          </a:xfrm>
          <a:prstGeom prst="rect">
            <a:avLst/>
          </a:prstGeom>
          <a:solidFill>
            <a:srgbClr val="25ca4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656400" y="5530680"/>
            <a:ext cx="1059480" cy="632160"/>
            <a:chOff x="6656400" y="5530680"/>
            <a:chExt cx="1059480" cy="632160"/>
          </a:xfrm>
        </p:grpSpPr>
        <p:sp>
          <p:nvSpPr>
            <p:cNvPr id="374" name=""/>
            <p:cNvSpPr/>
            <p:nvPr/>
          </p:nvSpPr>
          <p:spPr>
            <a:xfrm>
              <a:off x="6656400" y="5530680"/>
              <a:ext cx="67932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95640" y="5578560"/>
              <a:ext cx="102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penV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7696080" y="5867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08920" y="5526000"/>
            <a:ext cx="906480" cy="749520"/>
          </a:xfrm>
          <a:prstGeom prst="rect">
            <a:avLst/>
          </a:prstGeom>
          <a:solidFill>
            <a:srgbClr val="b2ab9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066160" y="5659560"/>
            <a:ext cx="836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2560" y="3071880"/>
          <a:ext cx="1965240" cy="15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3071880"/>
                    <a:ext cx="19652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277200" y="2505240"/>
            <a:ext cx="195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28600" y="5486400"/>
            <a:ext cx="838080" cy="746280"/>
            <a:chOff x="228600" y="5486400"/>
            <a:chExt cx="838080" cy="746280"/>
          </a:xfrm>
        </p:grpSpPr>
        <p:sp>
          <p:nvSpPr>
            <p:cNvPr id="383" name=""/>
            <p:cNvSpPr/>
            <p:nvPr/>
          </p:nvSpPr>
          <p:spPr>
            <a:xfrm>
              <a:off x="228600" y="5486400"/>
              <a:ext cx="838080" cy="746280"/>
            </a:xfrm>
            <a:prstGeom prst="rect">
              <a:avLst/>
            </a:prstGeom>
            <a:solidFill>
              <a:srgbClr val="25ca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312840" y="5530680"/>
              <a:ext cx="638640" cy="632160"/>
              <a:chOff x="312840" y="5530680"/>
              <a:chExt cx="638640" cy="632160"/>
            </a:xfrm>
          </p:grpSpPr>
          <p:sp>
            <p:nvSpPr>
              <p:cNvPr id="385" name=""/>
              <p:cNvSpPr/>
              <p:nvPr/>
            </p:nvSpPr>
            <p:spPr>
              <a:xfrm>
                <a:off x="312840" y="5530680"/>
                <a:ext cx="615960" cy="63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8840" y="5576760"/>
                <a:ext cx="602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W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8077320" y="2057400"/>
            <a:ext cx="825480" cy="1434960"/>
          </a:xfrm>
          <a:prstGeom prst="rect">
            <a:avLst/>
          </a:prstGeom>
          <a:solidFill>
            <a:srgbClr val="b2ab9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78400" y="2438280"/>
            <a:ext cx="82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560" y="5600880"/>
            <a:ext cx="16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419720" y="5486400"/>
            <a:ext cx="761760" cy="746280"/>
            <a:chOff x="4419720" y="5486400"/>
            <a:chExt cx="761760" cy="746280"/>
          </a:xfrm>
        </p:grpSpPr>
        <p:sp>
          <p:nvSpPr>
            <p:cNvPr id="391" name=""/>
            <p:cNvSpPr/>
            <p:nvPr/>
          </p:nvSpPr>
          <p:spPr>
            <a:xfrm>
              <a:off x="4419720" y="5486400"/>
              <a:ext cx="761760" cy="746280"/>
            </a:xfrm>
            <a:prstGeom prst="rect">
              <a:avLst/>
            </a:prstGeom>
            <a:solidFill>
              <a:srgbClr val="25ca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494240" y="5530680"/>
              <a:ext cx="563400" cy="632160"/>
              <a:chOff x="4494240" y="5530680"/>
              <a:chExt cx="563400" cy="632160"/>
            </a:xfrm>
          </p:grpSpPr>
          <p:sp>
            <p:nvSpPr>
              <p:cNvPr id="393" name=""/>
              <p:cNvSpPr/>
              <p:nvPr/>
            </p:nvSpPr>
            <p:spPr>
              <a:xfrm>
                <a:off x="4494240" y="5530680"/>
                <a:ext cx="563400" cy="63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530960" y="5575320"/>
                <a:ext cx="498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1295280" y="5486400"/>
            <a:ext cx="882000" cy="746280"/>
            <a:chOff x="1295280" y="5486400"/>
            <a:chExt cx="882000" cy="746280"/>
          </a:xfrm>
        </p:grpSpPr>
        <p:sp>
          <p:nvSpPr>
            <p:cNvPr id="396" name=""/>
            <p:cNvSpPr/>
            <p:nvPr/>
          </p:nvSpPr>
          <p:spPr>
            <a:xfrm>
              <a:off x="1295280" y="5486400"/>
              <a:ext cx="838440" cy="746280"/>
            </a:xfrm>
            <a:prstGeom prst="rect">
              <a:avLst/>
            </a:prstGeom>
            <a:solidFill>
              <a:srgbClr val="25ca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1378080" y="5530680"/>
              <a:ext cx="799200" cy="632160"/>
              <a:chOff x="1378080" y="5530680"/>
              <a:chExt cx="799200" cy="632160"/>
            </a:xfrm>
          </p:grpSpPr>
          <p:sp>
            <p:nvSpPr>
              <p:cNvPr id="398" name=""/>
              <p:cNvSpPr/>
              <p:nvPr/>
            </p:nvSpPr>
            <p:spPr>
              <a:xfrm>
                <a:off x="1378080" y="5530680"/>
                <a:ext cx="620640" cy="63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416240" y="5575320"/>
                <a:ext cx="7610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igi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UN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"/>
          <p:cNvSpPr/>
          <p:nvPr/>
        </p:nvSpPr>
        <p:spPr>
          <a:xfrm>
            <a:off x="306360" y="5029200"/>
            <a:ext cx="845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472608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486400" y="5486400"/>
            <a:ext cx="851040" cy="746280"/>
            <a:chOff x="5486400" y="5486400"/>
            <a:chExt cx="851040" cy="746280"/>
          </a:xfrm>
        </p:grpSpPr>
        <p:sp>
          <p:nvSpPr>
            <p:cNvPr id="403" name=""/>
            <p:cNvSpPr/>
            <p:nvPr/>
          </p:nvSpPr>
          <p:spPr>
            <a:xfrm>
              <a:off x="5486400" y="5486400"/>
              <a:ext cx="851040" cy="746280"/>
            </a:xfrm>
            <a:prstGeom prst="rect">
              <a:avLst/>
            </a:prstGeom>
            <a:solidFill>
              <a:srgbClr val="25ca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5570640" y="5530680"/>
              <a:ext cx="628560" cy="632160"/>
              <a:chOff x="5570640" y="5530680"/>
              <a:chExt cx="628560" cy="632160"/>
            </a:xfrm>
          </p:grpSpPr>
          <p:sp>
            <p:nvSpPr>
              <p:cNvPr id="405" name=""/>
              <p:cNvSpPr/>
              <p:nvPr/>
            </p:nvSpPr>
            <p:spPr>
              <a:xfrm>
                <a:off x="5570640" y="5530680"/>
                <a:ext cx="628560" cy="63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614560" y="5575320"/>
                <a:ext cx="565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R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3429000" y="5486400"/>
            <a:ext cx="709560" cy="746280"/>
          </a:xfrm>
          <a:prstGeom prst="rect">
            <a:avLst/>
          </a:prstGeom>
          <a:solidFill>
            <a:srgbClr val="25ca4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352680" y="5562720"/>
            <a:ext cx="826920" cy="631800"/>
            <a:chOff x="3352680" y="5562720"/>
            <a:chExt cx="826920" cy="631800"/>
          </a:xfrm>
        </p:grpSpPr>
        <p:sp>
          <p:nvSpPr>
            <p:cNvPr id="409" name=""/>
            <p:cNvSpPr/>
            <p:nvPr/>
          </p:nvSpPr>
          <p:spPr>
            <a:xfrm>
              <a:off x="3352680" y="5562720"/>
              <a:ext cx="52416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87960" y="5607000"/>
              <a:ext cx="79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P-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75248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1952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8660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334120" y="4038480"/>
            <a:ext cx="842400" cy="534960"/>
            <a:chOff x="5334120" y="4038480"/>
            <a:chExt cx="842400" cy="534960"/>
          </a:xfrm>
        </p:grpSpPr>
        <p:sp>
          <p:nvSpPr>
            <p:cNvPr id="419" name=""/>
            <p:cNvSpPr/>
            <p:nvPr/>
          </p:nvSpPr>
          <p:spPr>
            <a:xfrm>
              <a:off x="5334120" y="4038480"/>
              <a:ext cx="801720" cy="534960"/>
            </a:xfrm>
            <a:prstGeom prst="rect">
              <a:avLst/>
            </a:prstGeom>
            <a:solidFill>
              <a:srgbClr val="95a7d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74080" y="4059360"/>
              <a:ext cx="802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BS$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438280" y="2057400"/>
            <a:ext cx="1649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858360" y="5943600"/>
            <a:ext cx="642240" cy="256680"/>
            <a:chOff x="6858360" y="5943600"/>
            <a:chExt cx="642240" cy="256680"/>
          </a:xfrm>
        </p:grpSpPr>
        <p:sp>
          <p:nvSpPr>
            <p:cNvPr id="423" name=""/>
            <p:cNvSpPr/>
            <p:nvPr/>
          </p:nvSpPr>
          <p:spPr>
            <a:xfrm>
              <a:off x="6873840" y="5970600"/>
              <a:ext cx="609480" cy="228600"/>
            </a:xfrm>
            <a:prstGeom prst="ellipse">
              <a:avLst/>
            </a:prstGeom>
            <a:solidFill>
              <a:srgbClr val="896a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58360" y="5943600"/>
              <a:ext cx="6422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atalo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335560" y="3201840"/>
            <a:ext cx="303120" cy="836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16440" y="320184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21360" y="3201840"/>
            <a:ext cx="45576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4760" y="685800"/>
            <a:ext cx="87627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 Policy: Where/How to sav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564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o record the data about the backup - which catalo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o run the bac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o write the SaveSet: Tape (MDMS) or Disk (Files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save operations running in 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long to retain the SaveSets and catalog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ication options, Access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drives to be used for the backup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to notify; how; and on which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retries if error conditions occ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- and Post-Processing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685800"/>
            <a:ext cx="75438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 Policy: What data to save/rest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54080" y="1981080"/>
            <a:ext cx="71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ype of save: Full, Incremental or Selec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data is: disk and/or file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nd how often to run the bac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- and Post-Processing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vant Storag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vant Execution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ave request with maximum re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ly: files deleted from disk upon successful s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or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/disk to be resto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 for restored file/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66680" y="685800"/>
            <a:ext cx="6896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penVMS Client Specif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19360" y="2171880"/>
            <a:ext cx="702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VMS Backup and RDB R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ackup to a local de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ackup to the AB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VMS versions 6.1 - 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for GUI and D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s local c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609480"/>
            <a:ext cx="6896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ent Specif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9360" y="2171880"/>
            <a:ext cx="702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GNU Tar as backup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build GNU Tar for each client platform/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in a remote shell on UNIX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Installation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 set up as a trusted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modify /etc/rhosts and /.rhosts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on Digital UNIX, SunOS, Sun Solaris, AIX,  HP-UX, SGI 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76520" y="609480"/>
            <a:ext cx="6896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T Client Specif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19360" y="2171880"/>
            <a:ext cx="702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GNU Tar as the backup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d with a setup process on 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as an NT service on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on NT V3.51, V4.0, Intel or Alp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4537080" cy="53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369200" cy="35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VMS Backup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up Ut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 Library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ve/Backup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2057400"/>
            <a:ext cx="702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takes advantage of OpenVMS cluster features for mission critical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servers per cluster allows failo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continue on failover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server license required - two recomm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backs up all common cluster data - client license is not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license required only if node specific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BS in a clus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- Parallelism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02792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 save requ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ave reque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415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8 disk dr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415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have 1 tape drive (can have 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izing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uch capacity should a tape library ha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412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depend on customers n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412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enough tape capacity for 3 full backups (3 x amount of disk space) plus space for incrementals between two full backups.  The incremental space will vary dependant upon customer situation.  (20% a day of total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fast does it back up to t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412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doing testing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412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verage is 10GB/tape(TZ89)/h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8001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ystem V2.2 (Feb/98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7120" y="2009520"/>
            <a:ext cx="799128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83320" indent="-28332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GU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atch/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integration between H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logicals for pre- and post-processing comm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part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tape positio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S to ABS Conversion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V2.2 ECO1  July 1998 (Y2K complia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V2.2 ECO2  December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orking on ECO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penVMS Affinity program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7880" y="208584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/Backup System for O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ps with OpenVMS Enterprise Integration Pack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et of Archive/Backup System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up and Restore - batch que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VMS server license, One NT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Storage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Execution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f GU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grade to full ABS server:  License available no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BS, ABS OMT, SLS  Comparis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62120" y="1981080"/>
          <a:ext cx="9085320" cy="44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90853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LS -&gt; Archive/Backup Convers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208584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grade features toda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S and ABS can run on the same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 restores from SLS history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use the same media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K Conversion Tool: available Feb/9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grade white paper (on the we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storage.digital.com/swrks/homepage/sfwr/slspage.ht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apsh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 Library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/Backup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ckup.exe - Futur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59612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ffering techniques within Backup to increas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 pool spl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-40% improvement on fragmented dis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ved file knowledgeable back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napshot: Problem Statem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8483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8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 windows have all but disappeared due to expansion of global opera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ow set split/merge is too costly to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 want/need to backup their data without shutting down systems or applications for long periods, and without compromising system performance during the back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46748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ckup.ex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8920" y="2133720"/>
            <a:ext cx="71038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4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s with the OpenVMS 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4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files or disks in VMS SaveSe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backup (/IMA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4292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ed to reconstruct a volu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(files changed since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4292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data takes less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backu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4292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but unwiel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453720" y="5098680"/>
            <a:ext cx="1305720" cy="1423080"/>
            <a:chOff x="6453720" y="5098680"/>
            <a:chExt cx="1305720" cy="1423080"/>
          </a:xfrm>
        </p:grpSpPr>
        <p:grpSp>
          <p:nvGrpSpPr>
            <p:cNvPr id="578" name=""/>
            <p:cNvGrpSpPr/>
            <p:nvPr/>
          </p:nvGrpSpPr>
          <p:grpSpPr>
            <a:xfrm>
              <a:off x="6453720" y="5098680"/>
              <a:ext cx="1305720" cy="1423080"/>
              <a:chOff x="6453720" y="5098680"/>
              <a:chExt cx="1305720" cy="142308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6453720" y="5098680"/>
                <a:ext cx="1105920" cy="1215360"/>
                <a:chOff x="6453720" y="5098680"/>
                <a:chExt cx="1105920" cy="1215360"/>
              </a:xfrm>
            </p:grpSpPr>
            <p:sp>
              <p:nvSpPr>
                <p:cNvPr id="580" name=""/>
                <p:cNvSpPr/>
                <p:nvPr/>
              </p:nvSpPr>
              <p:spPr>
                <a:xfrm rot="20880000">
                  <a:off x="6552720" y="5181480"/>
                  <a:ext cx="907560" cy="1049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20880000">
                  <a:off x="6580440" y="5232240"/>
                  <a:ext cx="812520" cy="75420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6562440" y="5199840"/>
                <a:ext cx="978840" cy="1110600"/>
                <a:chOff x="6562440" y="5199840"/>
                <a:chExt cx="978840" cy="1110600"/>
              </a:xfrm>
            </p:grpSpPr>
            <p:sp>
              <p:nvSpPr>
                <p:cNvPr id="583" name=""/>
                <p:cNvSpPr/>
                <p:nvPr/>
              </p:nvSpPr>
              <p:spPr>
                <a:xfrm rot="21360000">
                  <a:off x="6597720" y="5230080"/>
                  <a:ext cx="907920" cy="1049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rot="21360000">
                  <a:off x="6640560" y="5279400"/>
                  <a:ext cx="810000" cy="75420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6600960" y="5241960"/>
                <a:ext cx="998280" cy="1126080"/>
                <a:chOff x="6600960" y="5241960"/>
                <a:chExt cx="998280" cy="1126080"/>
              </a:xfrm>
            </p:grpSpPr>
            <p:sp>
              <p:nvSpPr>
                <p:cNvPr id="586" name=""/>
                <p:cNvSpPr/>
                <p:nvPr/>
              </p:nvSpPr>
              <p:spPr>
                <a:xfrm rot="300000">
                  <a:off x="6644520" y="5279400"/>
                  <a:ext cx="910440" cy="1050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300000">
                  <a:off x="6700680" y="5330160"/>
                  <a:ext cx="815400" cy="75168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6603120" y="5253120"/>
                <a:ext cx="1087920" cy="1200240"/>
                <a:chOff x="6603120" y="5253120"/>
                <a:chExt cx="1087920" cy="1200240"/>
              </a:xfrm>
            </p:grpSpPr>
            <p:sp>
              <p:nvSpPr>
                <p:cNvPr id="589" name=""/>
                <p:cNvSpPr/>
                <p:nvPr/>
              </p:nvSpPr>
              <p:spPr>
                <a:xfrm rot="660000">
                  <a:off x="6694560" y="5329800"/>
                  <a:ext cx="904680" cy="104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rot="660000">
                  <a:off x="6759000" y="5380920"/>
                  <a:ext cx="812520" cy="75132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6627960" y="5285520"/>
                <a:ext cx="1131480" cy="1236240"/>
                <a:chOff x="6627960" y="5285520"/>
                <a:chExt cx="1131480" cy="1236240"/>
              </a:xfrm>
            </p:grpSpPr>
            <p:sp>
              <p:nvSpPr>
                <p:cNvPr id="592" name=""/>
                <p:cNvSpPr/>
                <p:nvPr/>
              </p:nvSpPr>
              <p:spPr>
                <a:xfrm rot="840000">
                  <a:off x="6741360" y="5379120"/>
                  <a:ext cx="904680" cy="1048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840000">
                  <a:off x="6810840" y="5432040"/>
                  <a:ext cx="811080" cy="75276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6788160" y="5428080"/>
                <a:ext cx="907560" cy="1048320"/>
                <a:chOff x="6788160" y="5428080"/>
                <a:chExt cx="907560" cy="10483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6788160" y="5428080"/>
                  <a:ext cx="907560" cy="1048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834600" y="5477760"/>
                  <a:ext cx="811080" cy="75132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7" name=""/>
            <p:cNvSpPr/>
            <p:nvPr/>
          </p:nvSpPr>
          <p:spPr>
            <a:xfrm>
              <a:off x="6949800" y="5699160"/>
              <a:ext cx="527040" cy="388800"/>
            </a:xfrm>
            <a:prstGeom prst="flowChartMagneticDisk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58760" y="1066320"/>
            <a:ext cx="73231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napshots for OpenVM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9912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s you take a "picture", or a "snapshot" of your disks at a given point i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apshot appears to OpenVMS (and to users) as another ordinary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looks like a duplicate of the original live data, but no additional disk space has been occupi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nly additional storage needed will be for changes made to the original data during the life of the snapsho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to create; minimizes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application down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453720" y="4946400"/>
            <a:ext cx="1305720" cy="1423080"/>
            <a:chOff x="6453720" y="4946400"/>
            <a:chExt cx="1305720" cy="1423080"/>
          </a:xfrm>
        </p:grpSpPr>
        <p:grpSp>
          <p:nvGrpSpPr>
            <p:cNvPr id="608" name=""/>
            <p:cNvGrpSpPr/>
            <p:nvPr/>
          </p:nvGrpSpPr>
          <p:grpSpPr>
            <a:xfrm>
              <a:off x="6453720" y="4946400"/>
              <a:ext cx="1305720" cy="1423080"/>
              <a:chOff x="6453720" y="4946400"/>
              <a:chExt cx="1305720" cy="142308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6453720" y="4946400"/>
                <a:ext cx="1105920" cy="1215360"/>
                <a:chOff x="6453720" y="4946400"/>
                <a:chExt cx="1105920" cy="1215360"/>
              </a:xfrm>
            </p:grpSpPr>
            <p:sp>
              <p:nvSpPr>
                <p:cNvPr id="610" name=""/>
                <p:cNvSpPr/>
                <p:nvPr/>
              </p:nvSpPr>
              <p:spPr>
                <a:xfrm rot="20880000">
                  <a:off x="6552720" y="5029200"/>
                  <a:ext cx="907560" cy="1049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rot="20880000">
                  <a:off x="6580440" y="5079960"/>
                  <a:ext cx="812520" cy="75420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6562440" y="5047560"/>
                <a:ext cx="978840" cy="1110600"/>
                <a:chOff x="6562440" y="5047560"/>
                <a:chExt cx="978840" cy="1110600"/>
              </a:xfrm>
            </p:grpSpPr>
            <p:sp>
              <p:nvSpPr>
                <p:cNvPr id="613" name=""/>
                <p:cNvSpPr/>
                <p:nvPr/>
              </p:nvSpPr>
              <p:spPr>
                <a:xfrm rot="21360000">
                  <a:off x="6597720" y="5077800"/>
                  <a:ext cx="907920" cy="1049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21360000">
                  <a:off x="6640560" y="5127120"/>
                  <a:ext cx="810000" cy="75420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600960" y="5089680"/>
                <a:ext cx="998280" cy="1126080"/>
                <a:chOff x="6600960" y="5089680"/>
                <a:chExt cx="998280" cy="1126080"/>
              </a:xfrm>
            </p:grpSpPr>
            <p:sp>
              <p:nvSpPr>
                <p:cNvPr id="616" name=""/>
                <p:cNvSpPr/>
                <p:nvPr/>
              </p:nvSpPr>
              <p:spPr>
                <a:xfrm rot="300000">
                  <a:off x="6644520" y="5127120"/>
                  <a:ext cx="910440" cy="1050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300000">
                  <a:off x="6700680" y="5177880"/>
                  <a:ext cx="815400" cy="75168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603120" y="5100840"/>
                <a:ext cx="1087920" cy="1200240"/>
                <a:chOff x="6603120" y="5100840"/>
                <a:chExt cx="1087920" cy="1200240"/>
              </a:xfrm>
            </p:grpSpPr>
            <p:sp>
              <p:nvSpPr>
                <p:cNvPr id="619" name=""/>
                <p:cNvSpPr/>
                <p:nvPr/>
              </p:nvSpPr>
              <p:spPr>
                <a:xfrm rot="660000">
                  <a:off x="6694560" y="5177520"/>
                  <a:ext cx="904680" cy="104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660000">
                  <a:off x="6759000" y="5228640"/>
                  <a:ext cx="812520" cy="75132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6627960" y="5133240"/>
                <a:ext cx="1131480" cy="1236240"/>
                <a:chOff x="6627960" y="5133240"/>
                <a:chExt cx="1131480" cy="1236240"/>
              </a:xfrm>
            </p:grpSpPr>
            <p:sp>
              <p:nvSpPr>
                <p:cNvPr id="622" name=""/>
                <p:cNvSpPr/>
                <p:nvPr/>
              </p:nvSpPr>
              <p:spPr>
                <a:xfrm rot="840000">
                  <a:off x="6741360" y="5226840"/>
                  <a:ext cx="904680" cy="1048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840000">
                  <a:off x="6810840" y="5279760"/>
                  <a:ext cx="811080" cy="75276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6788160" y="5275800"/>
                <a:ext cx="907560" cy="1048320"/>
                <a:chOff x="6788160" y="5275800"/>
                <a:chExt cx="907560" cy="10483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788160" y="5275800"/>
                  <a:ext cx="907560" cy="1048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834600" y="5325480"/>
                  <a:ext cx="811080" cy="75132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7" name=""/>
            <p:cNvSpPr/>
            <p:nvPr/>
          </p:nvSpPr>
          <p:spPr>
            <a:xfrm>
              <a:off x="6949800" y="5546880"/>
              <a:ext cx="527040" cy="388800"/>
            </a:xfrm>
            <a:prstGeom prst="flowChartMagneticDisk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9912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39840" indent="-33984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 can safely back up their data and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90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utting down systems or applications for extended perio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90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gnificantly impacting system performance during backup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investment protection because it allows customers to make use of existing disk technology in a Snapshot Po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1058760" y="1066320"/>
            <a:ext cx="73231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napshots for OpenVM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rcRect l="0" t="0" r="60751" b="36327"/>
          <a:stretch/>
        </p:blipFill>
        <p:spPr>
          <a:xfrm>
            <a:off x="2971800" y="3352680"/>
            <a:ext cx="1992240" cy="28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8" name="" descr=""/>
          <p:cNvPicPr/>
          <p:nvPr/>
        </p:nvPicPr>
        <p:blipFill>
          <a:blip r:embed="rId2"/>
          <a:srcRect l="0" t="0" r="60751" b="36327"/>
          <a:stretch/>
        </p:blipFill>
        <p:spPr>
          <a:xfrm>
            <a:off x="5410080" y="3657600"/>
            <a:ext cx="1992600" cy="28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39" name=""/>
          <p:cNvGrpSpPr/>
          <p:nvPr/>
        </p:nvGrpSpPr>
        <p:grpSpPr>
          <a:xfrm>
            <a:off x="2743200" y="2209680"/>
            <a:ext cx="4084920" cy="1581480"/>
            <a:chOff x="2743200" y="2209680"/>
            <a:chExt cx="4084920" cy="1581480"/>
          </a:xfrm>
        </p:grpSpPr>
        <p:sp>
          <p:nvSpPr>
            <p:cNvPr id="640" name=""/>
            <p:cNvSpPr/>
            <p:nvPr/>
          </p:nvSpPr>
          <p:spPr>
            <a:xfrm>
              <a:off x="2743200" y="2209680"/>
              <a:ext cx="3048120" cy="1067040"/>
            </a:xfrm>
            <a:custGeom>
              <a:avLst/>
              <a:gdLst/>
              <a:ahLst/>
              <a:rect l="l" t="t" r="r" b="b"/>
              <a:pathLst>
                <a:path w="1728" h="672">
                  <a:moveTo>
                    <a:pt x="48" y="48"/>
                  </a:moveTo>
                  <a:lnTo>
                    <a:pt x="1728" y="480"/>
                  </a:lnTo>
                  <a:lnTo>
                    <a:pt x="1680" y="672"/>
                  </a:lnTo>
                  <a:lnTo>
                    <a:pt x="0" y="62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f3064"/>
                </a:gs>
                <a:gs pos="50000">
                  <a:srgbClr val="896ad9"/>
                </a:gs>
                <a:gs pos="100000">
                  <a:srgbClr val="3f30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5288400" y="2209680"/>
              <a:ext cx="1539720" cy="1581480"/>
              <a:chOff x="5288400" y="2209680"/>
              <a:chExt cx="1539720" cy="1581480"/>
            </a:xfrm>
          </p:grpSpPr>
          <p:sp>
            <p:nvSpPr>
              <p:cNvPr id="642" name=""/>
              <p:cNvSpPr/>
              <p:nvPr/>
            </p:nvSpPr>
            <p:spPr>
              <a:xfrm>
                <a:off x="5487480" y="2209680"/>
                <a:ext cx="134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napsho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5288400" y="2632320"/>
                <a:ext cx="1158480" cy="1158840"/>
                <a:chOff x="5288400" y="2632320"/>
                <a:chExt cx="1158480" cy="1158840"/>
              </a:xfrm>
            </p:grpSpPr>
            <p:grpSp>
              <p:nvGrpSpPr>
                <p:cNvPr id="644" name=""/>
                <p:cNvGrpSpPr/>
                <p:nvPr/>
              </p:nvGrpSpPr>
              <p:grpSpPr>
                <a:xfrm>
                  <a:off x="5288400" y="2632320"/>
                  <a:ext cx="1158480" cy="1158840"/>
                  <a:chOff x="5288400" y="2632320"/>
                  <a:chExt cx="1158480" cy="115884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rot="310200">
                    <a:off x="5334120" y="2678040"/>
                    <a:ext cx="1066680" cy="1067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rot="310200">
                    <a:off x="5395680" y="2728080"/>
                    <a:ext cx="956880" cy="766440"/>
                  </a:xfrm>
                  <a:prstGeom prst="rect">
                    <a:avLst/>
                  </a:pr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7" name=""/>
                <p:cNvSpPr/>
                <p:nvPr/>
              </p:nvSpPr>
              <p:spPr>
                <a:xfrm>
                  <a:off x="5500800" y="2892600"/>
                  <a:ext cx="685800" cy="457200"/>
                </a:xfrm>
                <a:prstGeom prst="flowChartMagneticDisk">
                  <a:avLst/>
                </a:prstGeom>
                <a:solidFill>
                  <a:srgbClr val="99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8" name=""/>
          <p:cNvSpPr/>
          <p:nvPr/>
        </p:nvSpPr>
        <p:spPr>
          <a:xfrm rot="16137000">
            <a:off x="2631600" y="2414160"/>
            <a:ext cx="1028880" cy="803520"/>
          </a:xfrm>
          <a:custGeom>
            <a:avLst/>
            <a:gdLst>
              <a:gd name="textAreaLeft" fmla="*/ 334800 w 1028880"/>
              <a:gd name="textAreaRight" fmla="*/ 694080 w 1028880"/>
              <a:gd name="textAreaTop" fmla="*/ 261360 h 803520"/>
              <a:gd name="textAreaBottom" fmla="*/ 542160 h 8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102" y="21600"/>
                </a:lnTo>
                <a:lnTo>
                  <a:pt x="9498" y="21600"/>
                </a:lnTo>
                <a:close/>
              </a:path>
            </a:pathLst>
          </a:custGeom>
          <a:gradFill rotWithShape="0">
            <a:gsLst>
              <a:gs pos="0">
                <a:srgbClr val="25ca4b"/>
              </a:gs>
              <a:gs pos="100000">
                <a:srgbClr val="c2efcc"/>
              </a:gs>
            </a:gsLst>
            <a:lin ang="5400000"/>
          </a:gradFill>
          <a:ln w="9360">
            <a:solidFill>
              <a:srgbClr val="25c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438280" y="2301840"/>
            <a:ext cx="342720" cy="3314520"/>
            <a:chOff x="2438280" y="2301840"/>
            <a:chExt cx="342720" cy="3314520"/>
          </a:xfrm>
        </p:grpSpPr>
        <p:sp>
          <p:nvSpPr>
            <p:cNvPr id="650" name=""/>
            <p:cNvSpPr/>
            <p:nvPr/>
          </p:nvSpPr>
          <p:spPr>
            <a:xfrm>
              <a:off x="2438280" y="2301840"/>
              <a:ext cx="342720" cy="3314520"/>
            </a:xfrm>
            <a:prstGeom prst="rect">
              <a:avLst/>
            </a:prstGeom>
            <a:solidFill>
              <a:srgbClr val="95a7d0"/>
            </a:solidFill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38280" y="538776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38280" y="264456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38280" y="298764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38280" y="333036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38280" y="367344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38280" y="401616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435924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38280" y="470196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38280" y="504504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138480" y="2301840"/>
            <a:ext cx="1371600" cy="914400"/>
            <a:chOff x="3138480" y="2301840"/>
            <a:chExt cx="1371600" cy="914400"/>
          </a:xfrm>
        </p:grpSpPr>
        <p:sp>
          <p:nvSpPr>
            <p:cNvPr id="661" name=""/>
            <p:cNvSpPr/>
            <p:nvPr/>
          </p:nvSpPr>
          <p:spPr>
            <a:xfrm>
              <a:off x="3138480" y="2301840"/>
              <a:ext cx="1371600" cy="914400"/>
            </a:xfrm>
            <a:prstGeom prst="cloudCallout">
              <a:avLst>
                <a:gd name="adj1" fmla="val -2083"/>
                <a:gd name="adj2" fmla="val 11199"/>
              </a:avLst>
            </a:prstGeom>
            <a:solidFill>
              <a:srgbClr val="95a7d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81560" y="2530440"/>
              <a:ext cx="685800" cy="457200"/>
            </a:xfrm>
            <a:prstGeom prst="flowChartMagneticDisk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971800" y="190512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9868400">
            <a:off x="4335480" y="2514240"/>
            <a:ext cx="430200" cy="1600200"/>
          </a:xfrm>
          <a:custGeom>
            <a:avLst/>
            <a:gdLst>
              <a:gd name="textAreaLeft" fmla="*/ 57600 w 430200"/>
              <a:gd name="textAreaRight" fmla="*/ 372600 w 430200"/>
              <a:gd name="textAreaTop" fmla="*/ 333000 h 1600200"/>
              <a:gd name="textAreaBottom" fmla="*/ 11070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95" stAng="-5400000" swAng="5400000"/>
                <a:lnTo>
                  <a:pt x="21600" y="10445"/>
                </a:lnTo>
                <a:arcTo wR="21600" hR="8995" stAng="0" swAng="2980125"/>
                <a:lnTo>
                  <a:pt x="7200" y="21086"/>
                </a:lnTo>
                <a:lnTo>
                  <a:pt x="0" y="18715"/>
                </a:lnTo>
                <a:lnTo>
                  <a:pt x="7200" y="15316"/>
                </a:lnTo>
                <a:lnTo>
                  <a:pt x="7200" y="17476"/>
                </a:lnTo>
                <a:arcTo wR="21600" hR="8995" stAng="2980125" swAng="-2864405"/>
                <a:lnTo>
                  <a:pt x="21530" y="9720"/>
                </a:lnTo>
                <a:arcTo wR="21600" hR="8995" stAng="-115720" swAng="-5284280"/>
                <a:close/>
              </a:path>
              <a:path fill="darkenLess" w="21600" h="21600">
                <a:moveTo>
                  <a:pt x="0" y="0"/>
                </a:moveTo>
                <a:arcTo wR="21600" hR="8995" stAng="-5400000" swAng="5400000"/>
                <a:lnTo>
                  <a:pt x="21600" y="10445"/>
                </a:lnTo>
                <a:arcTo wR="21600" hR="8995" stAng="0" swAng="-115720"/>
                <a:lnTo>
                  <a:pt x="21530" y="9720"/>
                </a:lnTo>
                <a:arcTo wR="21600" hR="8995" stAng="-115720" swAng="-528428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9056000">
            <a:off x="6435720" y="2766600"/>
            <a:ext cx="477720" cy="1371600"/>
          </a:xfrm>
          <a:custGeom>
            <a:avLst/>
            <a:gdLst>
              <a:gd name="textAreaLeft" fmla="*/ 63720 w 477720"/>
              <a:gd name="textAreaRight" fmla="*/ 414000 w 477720"/>
              <a:gd name="textAreaTop" fmla="*/ 285480 h 1371600"/>
              <a:gd name="textAreaBottom" fmla="*/ 948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95" stAng="-5400000" swAng="5400000"/>
                <a:lnTo>
                  <a:pt x="21600" y="10445"/>
                </a:lnTo>
                <a:arcTo wR="21600" hR="8995" stAng="0" swAng="2980125"/>
                <a:lnTo>
                  <a:pt x="7200" y="21086"/>
                </a:lnTo>
                <a:lnTo>
                  <a:pt x="0" y="18715"/>
                </a:lnTo>
                <a:lnTo>
                  <a:pt x="7200" y="15316"/>
                </a:lnTo>
                <a:lnTo>
                  <a:pt x="7200" y="17476"/>
                </a:lnTo>
                <a:arcTo wR="21600" hR="8995" stAng="2980125" swAng="-2864405"/>
                <a:lnTo>
                  <a:pt x="21530" y="9720"/>
                </a:lnTo>
                <a:arcTo wR="21600" hR="8995" stAng="-115720" swAng="-5284280"/>
                <a:close/>
              </a:path>
              <a:path fill="darkenLess" w="21600" h="21600">
                <a:moveTo>
                  <a:pt x="0" y="0"/>
                </a:moveTo>
                <a:arcTo wR="21600" hR="8995" stAng="-5400000" swAng="5400000"/>
                <a:lnTo>
                  <a:pt x="21600" y="10445"/>
                </a:lnTo>
                <a:arcTo wR="21600" hR="8995" stAng="0" swAng="-115720"/>
                <a:lnTo>
                  <a:pt x="21530" y="9720"/>
                </a:lnTo>
                <a:arcTo wR="21600" hR="8995" stAng="-115720" swAng="-528428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10280" y="2133720"/>
            <a:ext cx="1828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disk and snapshot hold identical data because they share the same pool disk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04920" y="2590920"/>
            <a:ext cx="2081160" cy="2514600"/>
            <a:chOff x="304920" y="2590920"/>
            <a:chExt cx="2081160" cy="2514600"/>
          </a:xfrm>
        </p:grpSpPr>
        <p:sp>
          <p:nvSpPr>
            <p:cNvPr id="668" name=""/>
            <p:cNvSpPr/>
            <p:nvPr/>
          </p:nvSpPr>
          <p:spPr>
            <a:xfrm>
              <a:off x="1587600" y="2819520"/>
              <a:ext cx="798480" cy="20574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54440" y="3873600"/>
              <a:ext cx="533160" cy="0"/>
            </a:xfrm>
            <a:prstGeom prst="line">
              <a:avLst/>
            </a:prstGeom>
            <a:ln w="255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1321200" y="3044880"/>
              <a:ext cx="466560" cy="1279440"/>
              <a:chOff x="1321200" y="3044880"/>
              <a:chExt cx="466560" cy="1279440"/>
            </a:xfrm>
          </p:grpSpPr>
          <p:sp>
            <p:nvSpPr>
              <p:cNvPr id="671" name=""/>
              <p:cNvSpPr/>
              <p:nvPr/>
            </p:nvSpPr>
            <p:spPr>
              <a:xfrm>
                <a:off x="1321200" y="3044880"/>
                <a:ext cx="0" cy="1279440"/>
              </a:xfrm>
              <a:prstGeom prst="line">
                <a:avLst/>
              </a:prstGeom>
              <a:ln w="381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21200" y="3044880"/>
                <a:ext cx="466560" cy="0"/>
              </a:xfrm>
              <a:prstGeom prst="line">
                <a:avLst/>
              </a:prstGeom>
              <a:ln w="255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21200" y="4323240"/>
                <a:ext cx="466560" cy="0"/>
              </a:xfrm>
              <a:prstGeom prst="line">
                <a:avLst/>
              </a:prstGeom>
              <a:ln w="255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21200" y="3872520"/>
                <a:ext cx="466560" cy="0"/>
              </a:xfrm>
              <a:prstGeom prst="line">
                <a:avLst/>
              </a:prstGeom>
              <a:ln w="255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21200" y="3496320"/>
                <a:ext cx="466560" cy="0"/>
              </a:xfrm>
              <a:prstGeom prst="line">
                <a:avLst/>
              </a:prstGeom>
              <a:ln w="255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1787760" y="4473720"/>
              <a:ext cx="399960" cy="30132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1787760" y="2970360"/>
              <a:ext cx="399960" cy="1428480"/>
              <a:chOff x="1787760" y="2970360"/>
              <a:chExt cx="399960" cy="1428480"/>
            </a:xfrm>
          </p:grpSpPr>
          <p:sp>
            <p:nvSpPr>
              <p:cNvPr id="678" name=""/>
              <p:cNvSpPr/>
              <p:nvPr/>
            </p:nvSpPr>
            <p:spPr>
              <a:xfrm>
                <a:off x="1787760" y="2970360"/>
                <a:ext cx="399960" cy="300960"/>
              </a:xfrm>
              <a:prstGeom prst="flowChartMagneticDisk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787760" y="3346200"/>
                <a:ext cx="399960" cy="300960"/>
              </a:xfrm>
              <a:prstGeom prst="flowChartMagneticDisk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787760" y="3722760"/>
                <a:ext cx="399960" cy="299520"/>
              </a:xfrm>
              <a:prstGeom prst="flowChartMagneticDisk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787760" y="4097880"/>
                <a:ext cx="399960" cy="300960"/>
              </a:xfrm>
              <a:prstGeom prst="flowChartMagneticDisk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82" name="" descr=""/>
            <p:cNvPicPr/>
            <p:nvPr/>
          </p:nvPicPr>
          <p:blipFill>
            <a:blip r:embed="rId3"/>
            <a:stretch/>
          </p:blipFill>
          <p:spPr>
            <a:xfrm>
              <a:off x="304920" y="2590920"/>
              <a:ext cx="99072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58760" y="1066320"/>
            <a:ext cx="73231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napshots for OpenVM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858000" y="2666880"/>
            <a:ext cx="1828800" cy="2888640"/>
            <a:chOff x="6858000" y="2666880"/>
            <a:chExt cx="1828800" cy="2888640"/>
          </a:xfrm>
        </p:grpSpPr>
        <p:sp>
          <p:nvSpPr>
            <p:cNvPr id="692" name=""/>
            <p:cNvSpPr/>
            <p:nvPr/>
          </p:nvSpPr>
          <p:spPr>
            <a:xfrm flipV="1" rot="20280000">
              <a:off x="7770960" y="3175920"/>
              <a:ext cx="455400" cy="851040"/>
            </a:xfrm>
            <a:custGeom>
              <a:avLst/>
              <a:gdLst>
                <a:gd name="textAreaLeft" fmla="*/ 116280 w 455400"/>
                <a:gd name="textAreaRight" fmla="*/ 339120 w 455400"/>
                <a:gd name="textAreaTop" fmla="*/ 217800 h 851040"/>
                <a:gd name="textAreaBottom" fmla="*/ 63324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01" y="21600"/>
                  </a:lnTo>
                  <a:lnTo>
                    <a:pt x="6799" y="2160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 rot="600000">
              <a:off x="7788240" y="4104000"/>
              <a:ext cx="673200" cy="1130760"/>
            </a:xfrm>
            <a:custGeom>
              <a:avLst/>
              <a:gdLst>
                <a:gd name="textAreaLeft" fmla="*/ 147960 w 673200"/>
                <a:gd name="textAreaRight" fmla="*/ 525240 w 673200"/>
                <a:gd name="textAreaTop" fmla="*/ 248400 h 1130760"/>
                <a:gd name="textAreaBottom" fmla="*/ 882360 h 113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2" y="21600"/>
                  </a:lnTo>
                  <a:lnTo>
                    <a:pt x="5398" y="21600"/>
                  </a:lnTo>
                  <a:close/>
                </a:path>
              </a:pathLst>
            </a:custGeom>
            <a:solidFill>
              <a:srgbClr val="fd8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7700760" y="3602160"/>
              <a:ext cx="966960" cy="1032840"/>
              <a:chOff x="7700760" y="3602160"/>
              <a:chExt cx="966960" cy="1032840"/>
            </a:xfrm>
          </p:grpSpPr>
          <p:sp>
            <p:nvSpPr>
              <p:cNvPr id="695" name=""/>
              <p:cNvSpPr/>
              <p:nvPr/>
            </p:nvSpPr>
            <p:spPr>
              <a:xfrm rot="310200">
                <a:off x="7742160" y="3639960"/>
                <a:ext cx="884160" cy="957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b2ab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310200">
                <a:off x="7793640" y="3684600"/>
                <a:ext cx="793080" cy="6876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b2ab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6858000" y="2666880"/>
              <a:ext cx="1828800" cy="809640"/>
            </a:xfrm>
            <a:prstGeom prst="ellipse">
              <a:avLst/>
            </a:prstGeom>
            <a:solidFill>
              <a:srgbClr val="95a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73800" y="2879640"/>
              <a:ext cx="954360" cy="38232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50000">
                  <a:srgbClr val="000000"/>
                </a:gs>
                <a:gs pos="100000">
                  <a:srgbClr val="ff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 rot="1080000">
              <a:off x="7097400" y="3156120"/>
              <a:ext cx="480960" cy="1587600"/>
            </a:xfrm>
            <a:custGeom>
              <a:avLst/>
              <a:gdLst>
                <a:gd name="textAreaLeft" fmla="*/ 129240 w 480960"/>
                <a:gd name="textAreaRight" fmla="*/ 351720 w 480960"/>
                <a:gd name="textAreaTop" fmla="*/ 427320 h 1587600"/>
                <a:gd name="textAreaBottom" fmla="*/ 1160280 h 158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283" y="21600"/>
                  </a:lnTo>
                  <a:lnTo>
                    <a:pt x="7317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7632720" y="5081400"/>
              <a:ext cx="836280" cy="474120"/>
              <a:chOff x="7632720" y="5081400"/>
              <a:chExt cx="836280" cy="474120"/>
            </a:xfrm>
          </p:grpSpPr>
          <p:pic>
            <p:nvPicPr>
              <p:cNvPr id="7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776720" y="5253840"/>
                <a:ext cx="692280" cy="30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04360" y="5167080"/>
                <a:ext cx="693000" cy="30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2720" y="5081400"/>
                <a:ext cx="692280" cy="30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4" name=""/>
            <p:cNvSpPr/>
            <p:nvPr/>
          </p:nvSpPr>
          <p:spPr>
            <a:xfrm>
              <a:off x="7558200" y="2812680"/>
              <a:ext cx="395280" cy="29232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02440" y="2812680"/>
              <a:ext cx="393840" cy="29232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016840" y="2812680"/>
              <a:ext cx="393840" cy="29232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45440" y="3117600"/>
              <a:ext cx="395280" cy="29196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800840" y="3117600"/>
              <a:ext cx="395280" cy="29196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954920" y="3849480"/>
              <a:ext cx="487440" cy="365040"/>
            </a:xfrm>
            <a:prstGeom prst="flowChartMagneticDisk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58000" y="4458960"/>
              <a:ext cx="487440" cy="365040"/>
            </a:xfrm>
            <a:prstGeom prst="flowChartMagneticDisk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napshots - Benefi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8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-impact Online Back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apshots are the “source for backup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of snapshots is instantaneo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apshot can be saved to tape at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ient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 continue to access 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disk during back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st Rest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 against application failure us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iodic snapsh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llback in the event of application fail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orage Library System - Futur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testing on OpenVMS V7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4292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SSB version of V7.2 we have found probl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4292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changes required.   SLS V2.9C - April submit to SSB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to support SLS as long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nhanc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DS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ew devices and/or OVMS versions work - great, otherwise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lans to retire S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ystem - Futur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99164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V2.2A to be released Q1CY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2.2 with all the 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for OpebV6.2 and 7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V3.0 to be released Q2CY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VMS V7.2 suppor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ten media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799164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92000"/>
          </a:bodyPr>
          <a:p>
            <a:pPr marL="271440" indent="-27144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things we want to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lexible schedu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DECnet depend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314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Multinet, TCPw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 with Save Set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S-5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NT and UNIX client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3140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 database back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3140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3140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Back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new Backup, Snapsh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 enhancements including brow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improvements/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ystem - Futur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58400" y="760320"/>
            <a:ext cx="67899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hould customers migrate from SLS to AB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99164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91000"/>
          </a:bodyPr>
          <a:p>
            <a:pPr marL="268560" indent="-26856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S is mature, ABS is an immature, but growing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S is not reti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NT and UNIX clients backup to th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-1731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lot of data on NT or UNIX client, it is not a good 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-1731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like if you have a lot of data on OpenVMS and trying to back it up to another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 are standardizing on Y2K platform, they don’t want to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S support 5.5-2, ABS does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works with SLS lice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LS or ABS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LS customer - Continue to use and buy SLS until it makes sense for them to move to ABS.  Don’t rush 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ustomers who don’t have SLS, go with A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ixed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data on OVMS, little NT or UNIX:  A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data everywhere:  SLS or ABS and NetWork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990720" y="35053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15200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98000"/>
          </a:bodyPr>
          <a:p>
            <a:pPr marL="289080" indent="-28908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n around forev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1864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800/1600 BPI round ta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d capabilities to overcome hardware limi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1864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C:  Cyclic Redundancy 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400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CRC specifies that software CRC checking code is to be computed and stored in the data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1864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R:  Group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400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Group_size defines the number of blocks BACKUP places in each redundancy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limit the performance of Back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46748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ckup.ex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5200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Backup engineering (Andy Goldstei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C is not nee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R is best turned o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M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C can be left o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R can be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T:  Treat it like 4M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MM:  Use bot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46748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ckup.ex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andy_goldstein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5200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al back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provide automation features lik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o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management for both tape volumes &amp; robotic de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 commands can be included within  command procedures providing a level of auto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46748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ckup.ex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orage Library System (S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al product for OpenV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files or disks in VMS SaveSet format by using Backup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Oracle RBD databases using R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n around since 198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APESYS from Software Partner’s/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“automation” capabilities includ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o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OpenVMS servers and OpenVMS cli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orage Library System (S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76520"/>
            <a:ext cx="7380720" cy="4660920"/>
            <a:chOff x="457200" y="1676520"/>
            <a:chExt cx="7380720" cy="4660920"/>
          </a:xfrm>
        </p:grpSpPr>
        <p:sp>
          <p:nvSpPr>
            <p:cNvPr id="128" name=""/>
            <p:cNvSpPr/>
            <p:nvPr/>
          </p:nvSpPr>
          <p:spPr>
            <a:xfrm>
              <a:off x="1036800" y="5987880"/>
              <a:ext cx="15444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0200" y="5987880"/>
              <a:ext cx="2286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36800" y="5987880"/>
              <a:ext cx="15444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0200" y="5987880"/>
              <a:ext cx="2286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36800" y="5987880"/>
              <a:ext cx="15444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0200" y="5987880"/>
              <a:ext cx="2286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09680" y="426708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457360" y="4772160"/>
              <a:ext cx="486000" cy="33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1120" y="4267080"/>
              <a:ext cx="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689280" y="4932360"/>
              <a:ext cx="46188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151160" y="4932000"/>
              <a:ext cx="52560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743360" y="4768920"/>
              <a:ext cx="27792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1679400" y="4840200"/>
            <a:ext cx="1087560" cy="884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9400" y="4840200"/>
                      <a:ext cx="1087560" cy="88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3355920" y="5213520"/>
            <a:ext cx="704880" cy="572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5920" y="5213520"/>
                      <a:ext cx="704880" cy="57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4335480" y="5213520"/>
            <a:ext cx="704880" cy="572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5480" y="5213520"/>
                      <a:ext cx="704880" cy="57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3936960" y="5464080"/>
            <a:ext cx="704880" cy="57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36960" y="5464080"/>
                      <a:ext cx="70488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1143000" y="4267080"/>
              <a:ext cx="5257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20960" y="3332160"/>
              <a:ext cx="0" cy="9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27720" y="3119400"/>
              <a:ext cx="92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27720" y="3332160"/>
              <a:ext cx="858600" cy="39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3057480" y="2403360"/>
            <a:ext cx="1535040" cy="1249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57480" y="2403360"/>
                      <a:ext cx="1535040" cy="12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5256360" y="2870280"/>
            <a:ext cx="591840" cy="390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256360" y="2870280"/>
                      <a:ext cx="5918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3201840" y="4348080"/>
              <a:ext cx="627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08640" y="4348080"/>
              <a:ext cx="627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05520" y="2927520"/>
              <a:ext cx="18324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edia Datab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57000" y="3722760"/>
              <a:ext cx="11941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ile Inde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0" name=""/>
            <p:cNvGraphicFramePr/>
            <p:nvPr/>
          </p:nvGraphicFramePr>
          <p:xfrm>
            <a:off x="5191200" y="3551400"/>
            <a:ext cx="782640" cy="607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191200" y="3551400"/>
                      <a:ext cx="782640" cy="60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2781360" y="4584600"/>
            <a:ext cx="501480" cy="365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81360" y="4584600"/>
                      <a:ext cx="50148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842000" y="4584600"/>
            <a:ext cx="503280" cy="365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842000" y="4584600"/>
                      <a:ext cx="50328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6" name=""/>
            <p:cNvGrpSpPr/>
            <p:nvPr/>
          </p:nvGrpSpPr>
          <p:grpSpPr>
            <a:xfrm>
              <a:off x="457200" y="3200400"/>
              <a:ext cx="2276280" cy="705960"/>
              <a:chOff x="457200" y="3200400"/>
              <a:chExt cx="2276280" cy="7059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1049400" y="3200400"/>
                <a:ext cx="1684080" cy="531720"/>
                <a:chOff x="1049400" y="3200400"/>
                <a:chExt cx="1684080" cy="531720"/>
              </a:xfrm>
            </p:grpSpPr>
            <p:graphicFrame>
              <p:nvGraphicFramePr>
                <p:cNvPr id="168" name=""/>
                <p:cNvGraphicFramePr/>
                <p:nvPr/>
              </p:nvGraphicFramePr>
              <p:xfrm>
                <a:off x="1049400" y="3200400"/>
                <a:ext cx="392760" cy="5317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169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1049400" y="3200400"/>
                          <a:ext cx="392760" cy="531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70" name=""/>
                <p:cNvGraphicFramePr/>
                <p:nvPr/>
              </p:nvGraphicFramePr>
              <p:xfrm>
                <a:off x="2340720" y="3200400"/>
                <a:ext cx="392760" cy="53172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2340720" y="3200400"/>
                          <a:ext cx="392760" cy="531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72" name=""/>
              <p:cNvSpPr/>
              <p:nvPr/>
            </p:nvSpPr>
            <p:spPr>
              <a:xfrm>
                <a:off x="457200" y="3564000"/>
                <a:ext cx="69840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280" rIns="98280" tIns="49320" bIns="493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88960" y="3564000"/>
                <a:ext cx="110196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280" rIns="98280" tIns="49320" bIns="493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 flipV="1">
              <a:off x="1170000" y="2758680"/>
              <a:ext cx="289080" cy="43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174400" y="2759040"/>
              <a:ext cx="37332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572000" y="1752480"/>
              <a:ext cx="944280" cy="1057320"/>
              <a:chOff x="4572000" y="1752480"/>
              <a:chExt cx="944280" cy="1057320"/>
            </a:xfrm>
          </p:grpSpPr>
          <p:sp>
            <p:nvSpPr>
              <p:cNvPr id="177" name=""/>
              <p:cNvSpPr/>
              <p:nvPr/>
            </p:nvSpPr>
            <p:spPr>
              <a:xfrm>
                <a:off x="4572000" y="2595240"/>
                <a:ext cx="882360" cy="214560"/>
              </a:xfrm>
              <a:custGeom>
                <a:avLst/>
                <a:gdLst/>
                <a:ahLst/>
                <a:rect l="l" t="t" r="r" b="b"/>
                <a:pathLst>
                  <a:path w="824" h="267">
                    <a:moveTo>
                      <a:pt x="0" y="89"/>
                    </a:moveTo>
                    <a:lnTo>
                      <a:pt x="55" y="148"/>
                    </a:lnTo>
                    <a:lnTo>
                      <a:pt x="329" y="266"/>
                    </a:lnTo>
                    <a:lnTo>
                      <a:pt x="494" y="266"/>
                    </a:lnTo>
                    <a:lnTo>
                      <a:pt x="823" y="207"/>
                    </a:lnTo>
                    <a:lnTo>
                      <a:pt x="329" y="0"/>
                    </a:lnTo>
                    <a:lnTo>
                      <a:pt x="0" y="89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fefefe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97160" y="1752480"/>
                <a:ext cx="281520" cy="1005120"/>
              </a:xfrm>
              <a:custGeom>
                <a:avLst/>
                <a:gdLst/>
                <a:ahLst/>
                <a:rect l="l" t="t" r="r" b="b"/>
                <a:pathLst>
                  <a:path w="263" h="1250">
                    <a:moveTo>
                      <a:pt x="0" y="29"/>
                    </a:moveTo>
                    <a:lnTo>
                      <a:pt x="262" y="0"/>
                    </a:lnTo>
                    <a:lnTo>
                      <a:pt x="262" y="1249"/>
                    </a:lnTo>
                    <a:lnTo>
                      <a:pt x="0" y="1191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57200" y="1770840"/>
                <a:ext cx="72720" cy="919800"/>
              </a:xfrm>
              <a:custGeom>
                <a:avLst/>
                <a:gdLst/>
                <a:ahLst/>
                <a:rect l="l" t="t" r="r" b="b"/>
                <a:pathLst>
                  <a:path w="68" h="1144">
                    <a:moveTo>
                      <a:pt x="0" y="29"/>
                    </a:moveTo>
                    <a:lnTo>
                      <a:pt x="67" y="0"/>
                    </a:lnTo>
                    <a:lnTo>
                      <a:pt x="67" y="1143"/>
                    </a:lnTo>
                    <a:lnTo>
                      <a:pt x="0" y="1086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48280" y="1790280"/>
                <a:ext cx="159480" cy="953640"/>
              </a:xfrm>
              <a:custGeom>
                <a:avLst/>
                <a:gdLst/>
                <a:ahLst/>
                <a:rect l="l" t="t" r="r" b="b"/>
                <a:pathLst>
                  <a:path w="149" h="1186">
                    <a:moveTo>
                      <a:pt x="0" y="12"/>
                    </a:moveTo>
                    <a:lnTo>
                      <a:pt x="148" y="0"/>
                    </a:lnTo>
                    <a:lnTo>
                      <a:pt x="148" y="1185"/>
                    </a:lnTo>
                    <a:lnTo>
                      <a:pt x="0" y="1124"/>
                    </a:lnTo>
                    <a:lnTo>
                      <a:pt x="0" y="12"/>
                    </a:lnTo>
                  </a:path>
                </a:pathLst>
              </a:custGeom>
              <a:gradFill rotWithShape="0">
                <a:gsLst>
                  <a:gs pos="0">
                    <a:srgbClr val="595959"/>
                  </a:gs>
                  <a:gs pos="100000">
                    <a:srgbClr val="474747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b2ab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26120" y="1752480"/>
                <a:ext cx="124200" cy="990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5206320" y="2018520"/>
                <a:ext cx="183240" cy="254160"/>
                <a:chOff x="5206320" y="2018520"/>
                <a:chExt cx="183240" cy="25416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5239080" y="2151000"/>
                  <a:ext cx="70560" cy="56160"/>
                  <a:chOff x="5239080" y="2151000"/>
                  <a:chExt cx="70560" cy="56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5239080" y="2151000"/>
                    <a:ext cx="70560" cy="56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3c3c3"/>
                      </a:gs>
                      <a:gs pos="100000">
                        <a:srgbClr val="dadada"/>
                      </a:gs>
                    </a:gsLst>
                    <a:lin ang="13500000"/>
                  </a:gradFill>
                  <a:ln w="12600">
                    <a:solidFill>
                      <a:srgbClr val="b2ab9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5254920" y="2161800"/>
                    <a:ext cx="37440" cy="8640"/>
                  </a:xfrm>
                  <a:prstGeom prst="rect">
                    <a:avLst/>
                  </a:prstGeom>
                  <a:solidFill>
                    <a:srgbClr val="cbcbcb"/>
                  </a:solidFill>
                  <a:ln w="12600">
                    <a:solidFill>
                      <a:srgbClr val="b2ab9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254920" y="2186280"/>
                    <a:ext cx="37440" cy="6840"/>
                  </a:xfrm>
                  <a:prstGeom prst="rect">
                    <a:avLst/>
                  </a:prstGeom>
                  <a:solidFill>
                    <a:srgbClr val="cbcbcb"/>
                  </a:solidFill>
                  <a:ln w="12600">
                    <a:solidFill>
                      <a:srgbClr val="b2ab9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239080" y="2217960"/>
                  <a:ext cx="70560" cy="54720"/>
                  <a:chOff x="5239080" y="2217960"/>
                  <a:chExt cx="70560" cy="5472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239080" y="2217960"/>
                    <a:ext cx="70560" cy="54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19191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b2ab9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265720" y="2224080"/>
                    <a:ext cx="12600" cy="432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5239080" y="2018520"/>
                  <a:ext cx="705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3c3c3"/>
                    </a:gs>
                    <a:gs pos="100000">
                      <a:srgbClr val="dadada"/>
                    </a:gs>
                  </a:gsLst>
                  <a:lin ang="13500000"/>
                </a:gradFill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246640" y="2057760"/>
                  <a:ext cx="5652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238000" y="2032920"/>
                  <a:ext cx="26640" cy="10440"/>
                </a:xfrm>
                <a:prstGeom prst="rect">
                  <a:avLst/>
                </a:pr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239080" y="2085840"/>
                  <a:ext cx="70560" cy="5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3c3c3"/>
                    </a:gs>
                    <a:gs pos="100000">
                      <a:srgbClr val="dadada"/>
                    </a:gs>
                  </a:gsLst>
                  <a:lin ang="13500000"/>
                </a:gradFill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206320" y="2092320"/>
                  <a:ext cx="183240" cy="8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5440" rIns="55440" tIns="27000" bIns="270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52600"/>
                      <a:tab algn="l" pos="1104840"/>
                      <a:tab algn="l" pos="1657440"/>
                      <a:tab algn="l" pos="2209680"/>
                      <a:tab algn="l" pos="2762280"/>
                      <a:tab algn="l" pos="3314880"/>
                      <a:tab algn="l" pos="3867120"/>
                      <a:tab algn="l" pos="4419720"/>
                      <a:tab algn="l" pos="4971960"/>
                      <a:tab algn="l" pos="5524560"/>
                      <a:tab algn="l" pos="6076800"/>
                      <a:tab algn="l" pos="6629400"/>
                      <a:tab algn="l" pos="7182000"/>
                      <a:tab algn="l" pos="7734240"/>
                      <a:tab algn="l" pos="8286840"/>
                      <a:tab algn="l" pos="8839080"/>
                      <a:tab algn="l" pos="9391680"/>
                      <a:tab algn="l" pos="9944280"/>
                      <a:tab algn="l" pos="10496520"/>
                    </a:tabLst>
                  </a:pPr>
                  <a:r>
                    <a:rPr b="1" lang="en-US" sz="2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TL82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272200" y="2036880"/>
                  <a:ext cx="266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5356800" y="1752480"/>
                <a:ext cx="159480" cy="1006560"/>
              </a:xfrm>
              <a:custGeom>
                <a:avLst/>
                <a:gdLst/>
                <a:ahLst/>
                <a:rect l="l" t="t" r="r" b="b"/>
                <a:pathLst>
                  <a:path w="149" h="1252">
                    <a:moveTo>
                      <a:pt x="0" y="1251"/>
                    </a:moveTo>
                    <a:lnTo>
                      <a:pt x="148" y="1076"/>
                    </a:lnTo>
                    <a:lnTo>
                      <a:pt x="148" y="58"/>
                    </a:lnTo>
                    <a:lnTo>
                      <a:pt x="0" y="0"/>
                    </a:lnTo>
                    <a:lnTo>
                      <a:pt x="0" y="125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4856760" y="2024280"/>
                <a:ext cx="88560" cy="264600"/>
                <a:chOff x="4856760" y="2024280"/>
                <a:chExt cx="88560" cy="2646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856760" y="2024280"/>
                  <a:ext cx="88560" cy="264600"/>
                </a:xfrm>
                <a:custGeom>
                  <a:avLst/>
                  <a:gdLst/>
                  <a:ahLst/>
                  <a:rect l="l" t="t" r="r" b="b"/>
                  <a:pathLst>
                    <a:path w="83" h="329">
                      <a:moveTo>
                        <a:pt x="0" y="14"/>
                      </a:moveTo>
                      <a:lnTo>
                        <a:pt x="82" y="0"/>
                      </a:lnTo>
                      <a:lnTo>
                        <a:pt x="82" y="328"/>
                      </a:lnTo>
                      <a:lnTo>
                        <a:pt x="0" y="320"/>
                      </a:lnTo>
                      <a:lnTo>
                        <a:pt x="0" y="14"/>
                      </a:lnTo>
                    </a:path>
                  </a:pathLst>
                </a:custGeom>
                <a:gradFill rotWithShape="0">
                  <a:gsLst>
                    <a:gs pos="0">
                      <a:srgbClr val="dfdfdf"/>
                    </a:gs>
                    <a:gs pos="100000">
                      <a:srgbClr val="fafafa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884480" y="2091600"/>
                  <a:ext cx="60480" cy="170280"/>
                </a:xfrm>
                <a:custGeom>
                  <a:avLst/>
                  <a:gdLst/>
                  <a:ahLst/>
                  <a:rect l="l" t="t" r="r" b="b"/>
                  <a:pathLst>
                    <a:path w="57" h="212">
                      <a:moveTo>
                        <a:pt x="0" y="6"/>
                      </a:moveTo>
                      <a:lnTo>
                        <a:pt x="56" y="0"/>
                      </a:lnTo>
                      <a:lnTo>
                        <a:pt x="53" y="211"/>
                      </a:lnTo>
                      <a:lnTo>
                        <a:pt x="0" y="206"/>
                      </a:lnTo>
                      <a:lnTo>
                        <a:pt x="0" y="6"/>
                      </a:lnTo>
                    </a:path>
                  </a:pathLst>
                </a:custGeom>
                <a:gradFill rotWithShape="0">
                  <a:gsLst>
                    <a:gs pos="0">
                      <a:srgbClr val="595959"/>
                    </a:gs>
                    <a:gs pos="100000">
                      <a:srgbClr val="474747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886280" y="2045880"/>
                  <a:ext cx="21240" cy="24840"/>
                </a:xfrm>
                <a:custGeom>
                  <a:avLst/>
                  <a:gdLst/>
                  <a:ahLst/>
                  <a:rect l="l" t="t" r="r" b="b"/>
                  <a:pathLst>
                    <a:path w="20" h="31">
                      <a:moveTo>
                        <a:pt x="0" y="4"/>
                      </a:moveTo>
                      <a:lnTo>
                        <a:pt x="19" y="0"/>
                      </a:lnTo>
                      <a:lnTo>
                        <a:pt x="19" y="29"/>
                      </a:lnTo>
                      <a:lnTo>
                        <a:pt x="1" y="3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67676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2438280" y="5867280"/>
              <a:ext cx="304920" cy="381240"/>
              <a:chOff x="2438280" y="5867280"/>
              <a:chExt cx="304920" cy="381240"/>
            </a:xfrm>
          </p:grpSpPr>
          <p:sp>
            <p:nvSpPr>
              <p:cNvPr id="202" name=""/>
              <p:cNvSpPr/>
              <p:nvPr/>
            </p:nvSpPr>
            <p:spPr>
              <a:xfrm>
                <a:off x="2438280" y="5867280"/>
                <a:ext cx="21060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11360" y="5957640"/>
                <a:ext cx="227160" cy="2908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38280" y="5867280"/>
                <a:ext cx="70560" cy="379800"/>
              </a:xfrm>
              <a:custGeom>
                <a:avLst/>
                <a:gdLst/>
                <a:ahLst/>
                <a:rect l="l" t="t" r="r" b="b"/>
                <a:pathLst>
                  <a:path w="80" h="500">
                    <a:moveTo>
                      <a:pt x="0" y="0"/>
                    </a:moveTo>
                    <a:lnTo>
                      <a:pt x="0" y="374"/>
                    </a:lnTo>
                    <a:lnTo>
                      <a:pt x="79" y="499"/>
                    </a:lnTo>
                    <a:lnTo>
                      <a:pt x="79" y="11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48880" y="5867280"/>
                <a:ext cx="94320" cy="87840"/>
              </a:xfrm>
              <a:custGeom>
                <a:avLst/>
                <a:gdLst/>
                <a:ahLst/>
                <a:rect l="l" t="t" r="r" b="b"/>
                <a:pathLst>
                  <a:path w="107" h="116">
                    <a:moveTo>
                      <a:pt x="0" y="0"/>
                    </a:moveTo>
                    <a:lnTo>
                      <a:pt x="0" y="115"/>
                    </a:lnTo>
                    <a:lnTo>
                      <a:pt x="106" y="1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46640" y="5989320"/>
                <a:ext cx="113040" cy="238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b2ab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2701800" y="5997600"/>
                <a:ext cx="25200" cy="22680"/>
                <a:chOff x="2701800" y="5997600"/>
                <a:chExt cx="25200" cy="22680"/>
              </a:xfrm>
            </p:grpSpPr>
            <p:sp>
              <p:nvSpPr>
                <p:cNvPr id="208" name=""/>
                <p:cNvSpPr/>
                <p:nvPr/>
              </p:nvSpPr>
              <p:spPr>
                <a:xfrm flipV="1">
                  <a:off x="2701800" y="6011640"/>
                  <a:ext cx="9720" cy="828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17640" y="5997600"/>
                  <a:ext cx="9360" cy="2268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692800" y="6034320"/>
                <a:ext cx="27000" cy="23400"/>
                <a:chOff x="2692800" y="6034320"/>
                <a:chExt cx="27000" cy="23400"/>
              </a:xfrm>
            </p:grpSpPr>
            <p:sp>
              <p:nvSpPr>
                <p:cNvPr id="211" name=""/>
                <p:cNvSpPr/>
                <p:nvPr/>
              </p:nvSpPr>
              <p:spPr>
                <a:xfrm flipV="1">
                  <a:off x="2692800" y="6048360"/>
                  <a:ext cx="10440" cy="900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709360" y="6034320"/>
                  <a:ext cx="10440" cy="2340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2695320" y="6080040"/>
                <a:ext cx="26640" cy="22680"/>
                <a:chOff x="2695320" y="6080040"/>
                <a:chExt cx="26640" cy="22680"/>
              </a:xfrm>
            </p:grpSpPr>
            <p:sp>
              <p:nvSpPr>
                <p:cNvPr id="214" name=""/>
                <p:cNvSpPr/>
                <p:nvPr/>
              </p:nvSpPr>
              <p:spPr>
                <a:xfrm flipV="1">
                  <a:off x="2695320" y="6093360"/>
                  <a:ext cx="9720" cy="900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712240" y="6080040"/>
                  <a:ext cx="9720" cy="2268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5257800" y="5486400"/>
              <a:ext cx="304920" cy="380880"/>
              <a:chOff x="5257800" y="5486400"/>
              <a:chExt cx="304920" cy="380880"/>
            </a:xfrm>
          </p:grpSpPr>
          <p:sp>
            <p:nvSpPr>
              <p:cNvPr id="217" name=""/>
              <p:cNvSpPr/>
              <p:nvPr/>
            </p:nvSpPr>
            <p:spPr>
              <a:xfrm>
                <a:off x="5257800" y="5486400"/>
                <a:ext cx="210600" cy="27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30880" y="5576760"/>
                <a:ext cx="227160" cy="29052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57800" y="5486400"/>
                <a:ext cx="70560" cy="379440"/>
              </a:xfrm>
              <a:custGeom>
                <a:avLst/>
                <a:gdLst/>
                <a:ahLst/>
                <a:rect l="l" t="t" r="r" b="b"/>
                <a:pathLst>
                  <a:path w="80" h="500">
                    <a:moveTo>
                      <a:pt x="0" y="0"/>
                    </a:moveTo>
                    <a:lnTo>
                      <a:pt x="0" y="374"/>
                    </a:lnTo>
                    <a:lnTo>
                      <a:pt x="79" y="499"/>
                    </a:lnTo>
                    <a:lnTo>
                      <a:pt x="79" y="11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68400" y="5486400"/>
                <a:ext cx="94320" cy="87840"/>
              </a:xfrm>
              <a:custGeom>
                <a:avLst/>
                <a:gdLst/>
                <a:ahLst/>
                <a:rect l="l" t="t" r="r" b="b"/>
                <a:pathLst>
                  <a:path w="107" h="116">
                    <a:moveTo>
                      <a:pt x="0" y="0"/>
                    </a:moveTo>
                    <a:lnTo>
                      <a:pt x="0" y="115"/>
                    </a:lnTo>
                    <a:lnTo>
                      <a:pt x="106" y="1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366160" y="5608440"/>
                <a:ext cx="113040" cy="238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b2ab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5521320" y="5616720"/>
                <a:ext cx="25200" cy="22680"/>
                <a:chOff x="5521320" y="5616720"/>
                <a:chExt cx="25200" cy="22680"/>
              </a:xfrm>
            </p:grpSpPr>
            <p:sp>
              <p:nvSpPr>
                <p:cNvPr id="223" name=""/>
                <p:cNvSpPr/>
                <p:nvPr/>
              </p:nvSpPr>
              <p:spPr>
                <a:xfrm flipV="1">
                  <a:off x="5521320" y="5630760"/>
                  <a:ext cx="9720" cy="828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537160" y="5616720"/>
                  <a:ext cx="9360" cy="2268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512320" y="5653080"/>
                <a:ext cx="27000" cy="23400"/>
                <a:chOff x="5512320" y="5653080"/>
                <a:chExt cx="27000" cy="23400"/>
              </a:xfrm>
            </p:grpSpPr>
            <p:sp>
              <p:nvSpPr>
                <p:cNvPr id="226" name=""/>
                <p:cNvSpPr/>
                <p:nvPr/>
              </p:nvSpPr>
              <p:spPr>
                <a:xfrm flipV="1">
                  <a:off x="5512320" y="5667120"/>
                  <a:ext cx="10440" cy="900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528880" y="5653080"/>
                  <a:ext cx="10440" cy="2340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514840" y="5698800"/>
                <a:ext cx="26640" cy="22680"/>
                <a:chOff x="5514840" y="5698800"/>
                <a:chExt cx="26640" cy="22680"/>
              </a:xfrm>
            </p:grpSpPr>
            <p:sp>
              <p:nvSpPr>
                <p:cNvPr id="229" name=""/>
                <p:cNvSpPr/>
                <p:nvPr/>
              </p:nvSpPr>
              <p:spPr>
                <a:xfrm flipV="1">
                  <a:off x="5514840" y="5712120"/>
                  <a:ext cx="9720" cy="900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531760" y="5698800"/>
                  <a:ext cx="9720" cy="2268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 flipV="1">
              <a:off x="4495680" y="236196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14600" y="57146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028840" y="5715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36800" y="5486400"/>
              <a:ext cx="112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OpenV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LS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6600" y="2743200"/>
              <a:ext cx="116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OpenV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LS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03080" y="5029200"/>
              <a:ext cx="112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OpenV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LS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914400" y="1676520"/>
              <a:ext cx="2187720" cy="1145520"/>
              <a:chOff x="914400" y="1676520"/>
              <a:chExt cx="2187720" cy="1145520"/>
            </a:xfrm>
          </p:grpSpPr>
          <p:sp>
            <p:nvSpPr>
              <p:cNvPr id="238" name=""/>
              <p:cNvSpPr/>
              <p:nvPr/>
            </p:nvSpPr>
            <p:spPr>
              <a:xfrm>
                <a:off x="1519200" y="2279520"/>
                <a:ext cx="959040" cy="542520"/>
              </a:xfrm>
              <a:custGeom>
                <a:avLst/>
                <a:gdLst/>
                <a:ahLst/>
                <a:rect l="l" t="t" r="r" b="b"/>
                <a:pathLst>
                  <a:path w="966" h="540">
                    <a:moveTo>
                      <a:pt x="482" y="0"/>
                    </a:moveTo>
                    <a:lnTo>
                      <a:pt x="531" y="1"/>
                    </a:lnTo>
                    <a:lnTo>
                      <a:pt x="579" y="5"/>
                    </a:lnTo>
                    <a:lnTo>
                      <a:pt x="626" y="12"/>
                    </a:lnTo>
                    <a:lnTo>
                      <a:pt x="669" y="21"/>
                    </a:lnTo>
                    <a:lnTo>
                      <a:pt x="711" y="32"/>
                    </a:lnTo>
                    <a:lnTo>
                      <a:pt x="751" y="46"/>
                    </a:lnTo>
                    <a:lnTo>
                      <a:pt x="789" y="61"/>
                    </a:lnTo>
                    <a:lnTo>
                      <a:pt x="823" y="78"/>
                    </a:lnTo>
                    <a:lnTo>
                      <a:pt x="854" y="97"/>
                    </a:lnTo>
                    <a:lnTo>
                      <a:pt x="883" y="117"/>
                    </a:lnTo>
                    <a:lnTo>
                      <a:pt x="907" y="139"/>
                    </a:lnTo>
                    <a:lnTo>
                      <a:pt x="926" y="163"/>
                    </a:lnTo>
                    <a:lnTo>
                      <a:pt x="943" y="187"/>
                    </a:lnTo>
                    <a:lnTo>
                      <a:pt x="956" y="213"/>
                    </a:lnTo>
                    <a:lnTo>
                      <a:pt x="962" y="240"/>
                    </a:lnTo>
                    <a:lnTo>
                      <a:pt x="965" y="268"/>
                    </a:lnTo>
                    <a:lnTo>
                      <a:pt x="962" y="296"/>
                    </a:lnTo>
                    <a:lnTo>
                      <a:pt x="956" y="323"/>
                    </a:lnTo>
                    <a:lnTo>
                      <a:pt x="943" y="349"/>
                    </a:lnTo>
                    <a:lnTo>
                      <a:pt x="926" y="374"/>
                    </a:lnTo>
                    <a:lnTo>
                      <a:pt x="907" y="397"/>
                    </a:lnTo>
                    <a:lnTo>
                      <a:pt x="883" y="421"/>
                    </a:lnTo>
                    <a:lnTo>
                      <a:pt x="854" y="440"/>
                    </a:lnTo>
                    <a:lnTo>
                      <a:pt x="823" y="460"/>
                    </a:lnTo>
                    <a:lnTo>
                      <a:pt x="789" y="478"/>
                    </a:lnTo>
                    <a:lnTo>
                      <a:pt x="751" y="493"/>
                    </a:lnTo>
                    <a:lnTo>
                      <a:pt x="711" y="507"/>
                    </a:lnTo>
                    <a:lnTo>
                      <a:pt x="669" y="517"/>
                    </a:lnTo>
                    <a:lnTo>
                      <a:pt x="626" y="527"/>
                    </a:lnTo>
                    <a:lnTo>
                      <a:pt x="579" y="534"/>
                    </a:lnTo>
                    <a:lnTo>
                      <a:pt x="531" y="538"/>
                    </a:lnTo>
                    <a:lnTo>
                      <a:pt x="482" y="539"/>
                    </a:lnTo>
                    <a:lnTo>
                      <a:pt x="433" y="538"/>
                    </a:lnTo>
                    <a:lnTo>
                      <a:pt x="386" y="534"/>
                    </a:lnTo>
                    <a:lnTo>
                      <a:pt x="339" y="527"/>
                    </a:lnTo>
                    <a:lnTo>
                      <a:pt x="295" y="517"/>
                    </a:lnTo>
                    <a:lnTo>
                      <a:pt x="254" y="507"/>
                    </a:lnTo>
                    <a:lnTo>
                      <a:pt x="214" y="493"/>
                    </a:lnTo>
                    <a:lnTo>
                      <a:pt x="176" y="478"/>
                    </a:lnTo>
                    <a:lnTo>
                      <a:pt x="142" y="460"/>
                    </a:lnTo>
                    <a:lnTo>
                      <a:pt x="111" y="440"/>
                    </a:lnTo>
                    <a:lnTo>
                      <a:pt x="82" y="421"/>
                    </a:lnTo>
                    <a:lnTo>
                      <a:pt x="58" y="397"/>
                    </a:lnTo>
                    <a:lnTo>
                      <a:pt x="39" y="374"/>
                    </a:lnTo>
                    <a:lnTo>
                      <a:pt x="22" y="349"/>
                    </a:lnTo>
                    <a:lnTo>
                      <a:pt x="9" y="323"/>
                    </a:lnTo>
                    <a:lnTo>
                      <a:pt x="3" y="296"/>
                    </a:lnTo>
                    <a:lnTo>
                      <a:pt x="0" y="268"/>
                    </a:lnTo>
                    <a:lnTo>
                      <a:pt x="3" y="240"/>
                    </a:lnTo>
                    <a:lnTo>
                      <a:pt x="9" y="213"/>
                    </a:lnTo>
                    <a:lnTo>
                      <a:pt x="22" y="187"/>
                    </a:lnTo>
                    <a:lnTo>
                      <a:pt x="39" y="163"/>
                    </a:lnTo>
                    <a:lnTo>
                      <a:pt x="58" y="139"/>
                    </a:lnTo>
                    <a:lnTo>
                      <a:pt x="82" y="117"/>
                    </a:lnTo>
                    <a:lnTo>
                      <a:pt x="111" y="97"/>
                    </a:lnTo>
                    <a:lnTo>
                      <a:pt x="142" y="78"/>
                    </a:lnTo>
                    <a:lnTo>
                      <a:pt x="176" y="61"/>
                    </a:lnTo>
                    <a:lnTo>
                      <a:pt x="214" y="46"/>
                    </a:lnTo>
                    <a:lnTo>
                      <a:pt x="254" y="32"/>
                    </a:lnTo>
                    <a:lnTo>
                      <a:pt x="295" y="21"/>
                    </a:lnTo>
                    <a:lnTo>
                      <a:pt x="339" y="12"/>
                    </a:lnTo>
                    <a:lnTo>
                      <a:pt x="386" y="5"/>
                    </a:lnTo>
                    <a:lnTo>
                      <a:pt x="433" y="1"/>
                    </a:lnTo>
                    <a:lnTo>
                      <a:pt x="482" y="0"/>
                    </a:lnTo>
                  </a:path>
                </a:pathLst>
              </a:custGeom>
              <a:solidFill>
                <a:srgbClr val="00c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74960" y="2192040"/>
                <a:ext cx="957240" cy="544320"/>
              </a:xfrm>
              <a:custGeom>
                <a:avLst/>
                <a:gdLst/>
                <a:ahLst/>
                <a:rect l="l" t="t" r="r" b="b"/>
                <a:pathLst>
                  <a:path w="964" h="542">
                    <a:moveTo>
                      <a:pt x="482" y="0"/>
                    </a:moveTo>
                    <a:lnTo>
                      <a:pt x="530" y="2"/>
                    </a:lnTo>
                    <a:lnTo>
                      <a:pt x="578" y="5"/>
                    </a:lnTo>
                    <a:lnTo>
                      <a:pt x="623" y="12"/>
                    </a:lnTo>
                    <a:lnTo>
                      <a:pt x="668" y="21"/>
                    </a:lnTo>
                    <a:lnTo>
                      <a:pt x="711" y="32"/>
                    </a:lnTo>
                    <a:lnTo>
                      <a:pt x="750" y="47"/>
                    </a:lnTo>
                    <a:lnTo>
                      <a:pt x="788" y="62"/>
                    </a:lnTo>
                    <a:lnTo>
                      <a:pt x="822" y="78"/>
                    </a:lnTo>
                    <a:lnTo>
                      <a:pt x="853" y="98"/>
                    </a:lnTo>
                    <a:lnTo>
                      <a:pt x="880" y="118"/>
                    </a:lnTo>
                    <a:lnTo>
                      <a:pt x="906" y="141"/>
                    </a:lnTo>
                    <a:lnTo>
                      <a:pt x="925" y="164"/>
                    </a:lnTo>
                    <a:lnTo>
                      <a:pt x="941" y="189"/>
                    </a:lnTo>
                    <a:lnTo>
                      <a:pt x="955" y="215"/>
                    </a:lnTo>
                    <a:lnTo>
                      <a:pt x="961" y="242"/>
                    </a:lnTo>
                    <a:lnTo>
                      <a:pt x="963" y="270"/>
                    </a:lnTo>
                    <a:lnTo>
                      <a:pt x="961" y="298"/>
                    </a:lnTo>
                    <a:lnTo>
                      <a:pt x="955" y="325"/>
                    </a:lnTo>
                    <a:lnTo>
                      <a:pt x="941" y="351"/>
                    </a:lnTo>
                    <a:lnTo>
                      <a:pt x="925" y="376"/>
                    </a:lnTo>
                    <a:lnTo>
                      <a:pt x="906" y="399"/>
                    </a:lnTo>
                    <a:lnTo>
                      <a:pt x="880" y="423"/>
                    </a:lnTo>
                    <a:lnTo>
                      <a:pt x="853" y="442"/>
                    </a:lnTo>
                    <a:lnTo>
                      <a:pt x="822" y="462"/>
                    </a:lnTo>
                    <a:lnTo>
                      <a:pt x="788" y="480"/>
                    </a:lnTo>
                    <a:lnTo>
                      <a:pt x="750" y="495"/>
                    </a:lnTo>
                    <a:lnTo>
                      <a:pt x="711" y="509"/>
                    </a:lnTo>
                    <a:lnTo>
                      <a:pt x="668" y="519"/>
                    </a:lnTo>
                    <a:lnTo>
                      <a:pt x="623" y="529"/>
                    </a:lnTo>
                    <a:lnTo>
                      <a:pt x="578" y="536"/>
                    </a:lnTo>
                    <a:lnTo>
                      <a:pt x="530" y="540"/>
                    </a:lnTo>
                    <a:lnTo>
                      <a:pt x="482" y="541"/>
                    </a:lnTo>
                    <a:lnTo>
                      <a:pt x="433" y="540"/>
                    </a:lnTo>
                    <a:lnTo>
                      <a:pt x="386" y="536"/>
                    </a:lnTo>
                    <a:lnTo>
                      <a:pt x="339" y="529"/>
                    </a:lnTo>
                    <a:lnTo>
                      <a:pt x="294" y="519"/>
                    </a:lnTo>
                    <a:lnTo>
                      <a:pt x="253" y="509"/>
                    </a:lnTo>
                    <a:lnTo>
                      <a:pt x="212" y="495"/>
                    </a:lnTo>
                    <a:lnTo>
                      <a:pt x="175" y="480"/>
                    </a:lnTo>
                    <a:lnTo>
                      <a:pt x="142" y="462"/>
                    </a:lnTo>
                    <a:lnTo>
                      <a:pt x="109" y="442"/>
                    </a:lnTo>
                    <a:lnTo>
                      <a:pt x="82" y="423"/>
                    </a:lnTo>
                    <a:lnTo>
                      <a:pt x="58" y="399"/>
                    </a:lnTo>
                    <a:lnTo>
                      <a:pt x="39" y="376"/>
                    </a:lnTo>
                    <a:lnTo>
                      <a:pt x="21" y="351"/>
                    </a:lnTo>
                    <a:lnTo>
                      <a:pt x="9" y="325"/>
                    </a:lnTo>
                    <a:lnTo>
                      <a:pt x="3" y="298"/>
                    </a:lnTo>
                    <a:lnTo>
                      <a:pt x="0" y="270"/>
                    </a:lnTo>
                    <a:lnTo>
                      <a:pt x="3" y="242"/>
                    </a:lnTo>
                    <a:lnTo>
                      <a:pt x="9" y="215"/>
                    </a:lnTo>
                    <a:lnTo>
                      <a:pt x="21" y="189"/>
                    </a:lnTo>
                    <a:lnTo>
                      <a:pt x="39" y="164"/>
                    </a:lnTo>
                    <a:lnTo>
                      <a:pt x="58" y="141"/>
                    </a:lnTo>
                    <a:lnTo>
                      <a:pt x="82" y="118"/>
                    </a:lnTo>
                    <a:lnTo>
                      <a:pt x="109" y="98"/>
                    </a:lnTo>
                    <a:lnTo>
                      <a:pt x="142" y="78"/>
                    </a:lnTo>
                    <a:lnTo>
                      <a:pt x="175" y="62"/>
                    </a:lnTo>
                    <a:lnTo>
                      <a:pt x="212" y="47"/>
                    </a:lnTo>
                    <a:lnTo>
                      <a:pt x="253" y="32"/>
                    </a:lnTo>
                    <a:lnTo>
                      <a:pt x="294" y="21"/>
                    </a:lnTo>
                    <a:lnTo>
                      <a:pt x="339" y="12"/>
                    </a:lnTo>
                    <a:lnTo>
                      <a:pt x="386" y="5"/>
                    </a:lnTo>
                    <a:lnTo>
                      <a:pt x="433" y="2"/>
                    </a:lnTo>
                    <a:lnTo>
                      <a:pt x="482" y="0"/>
                    </a:lnTo>
                  </a:path>
                </a:pathLst>
              </a:custGeom>
              <a:solidFill>
                <a:srgbClr val="00c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94120" y="1838160"/>
                <a:ext cx="1008000" cy="612360"/>
              </a:xfrm>
              <a:custGeom>
                <a:avLst/>
                <a:gdLst/>
                <a:ahLst/>
                <a:rect l="l" t="t" r="r" b="b"/>
                <a:pathLst>
                  <a:path w="1015" h="609">
                    <a:moveTo>
                      <a:pt x="506" y="0"/>
                    </a:moveTo>
                    <a:lnTo>
                      <a:pt x="558" y="1"/>
                    </a:lnTo>
                    <a:lnTo>
                      <a:pt x="608" y="5"/>
                    </a:lnTo>
                    <a:lnTo>
                      <a:pt x="657" y="12"/>
                    </a:lnTo>
                    <a:lnTo>
                      <a:pt x="703" y="22"/>
                    </a:lnTo>
                    <a:lnTo>
                      <a:pt x="747" y="35"/>
                    </a:lnTo>
                    <a:lnTo>
                      <a:pt x="790" y="52"/>
                    </a:lnTo>
                    <a:lnTo>
                      <a:pt x="828" y="69"/>
                    </a:lnTo>
                    <a:lnTo>
                      <a:pt x="865" y="87"/>
                    </a:lnTo>
                    <a:lnTo>
                      <a:pt x="899" y="109"/>
                    </a:lnTo>
                    <a:lnTo>
                      <a:pt x="927" y="133"/>
                    </a:lnTo>
                    <a:lnTo>
                      <a:pt x="952" y="158"/>
                    </a:lnTo>
                    <a:lnTo>
                      <a:pt x="973" y="184"/>
                    </a:lnTo>
                    <a:lnTo>
                      <a:pt x="992" y="212"/>
                    </a:lnTo>
                    <a:lnTo>
                      <a:pt x="1004" y="242"/>
                    </a:lnTo>
                    <a:lnTo>
                      <a:pt x="1011" y="272"/>
                    </a:lnTo>
                    <a:lnTo>
                      <a:pt x="1014" y="303"/>
                    </a:lnTo>
                    <a:lnTo>
                      <a:pt x="1011" y="335"/>
                    </a:lnTo>
                    <a:lnTo>
                      <a:pt x="1004" y="365"/>
                    </a:lnTo>
                    <a:lnTo>
                      <a:pt x="992" y="395"/>
                    </a:lnTo>
                    <a:lnTo>
                      <a:pt x="973" y="422"/>
                    </a:lnTo>
                    <a:lnTo>
                      <a:pt x="952" y="449"/>
                    </a:lnTo>
                    <a:lnTo>
                      <a:pt x="927" y="473"/>
                    </a:lnTo>
                    <a:lnTo>
                      <a:pt x="899" y="497"/>
                    </a:lnTo>
                    <a:lnTo>
                      <a:pt x="865" y="518"/>
                    </a:lnTo>
                    <a:lnTo>
                      <a:pt x="828" y="538"/>
                    </a:lnTo>
                    <a:lnTo>
                      <a:pt x="790" y="555"/>
                    </a:lnTo>
                    <a:lnTo>
                      <a:pt x="747" y="572"/>
                    </a:lnTo>
                    <a:lnTo>
                      <a:pt x="703" y="583"/>
                    </a:lnTo>
                    <a:lnTo>
                      <a:pt x="657" y="595"/>
                    </a:lnTo>
                    <a:lnTo>
                      <a:pt x="608" y="602"/>
                    </a:lnTo>
                    <a:lnTo>
                      <a:pt x="558" y="606"/>
                    </a:lnTo>
                    <a:lnTo>
                      <a:pt x="506" y="608"/>
                    </a:lnTo>
                    <a:lnTo>
                      <a:pt x="455" y="606"/>
                    </a:lnTo>
                    <a:lnTo>
                      <a:pt x="404" y="602"/>
                    </a:lnTo>
                    <a:lnTo>
                      <a:pt x="356" y="595"/>
                    </a:lnTo>
                    <a:lnTo>
                      <a:pt x="310" y="583"/>
                    </a:lnTo>
                    <a:lnTo>
                      <a:pt x="265" y="572"/>
                    </a:lnTo>
                    <a:lnTo>
                      <a:pt x="223" y="555"/>
                    </a:lnTo>
                    <a:lnTo>
                      <a:pt x="183" y="538"/>
                    </a:lnTo>
                    <a:lnTo>
                      <a:pt x="149" y="518"/>
                    </a:lnTo>
                    <a:lnTo>
                      <a:pt x="115" y="497"/>
                    </a:lnTo>
                    <a:lnTo>
                      <a:pt x="87" y="473"/>
                    </a:lnTo>
                    <a:lnTo>
                      <a:pt x="62" y="449"/>
                    </a:lnTo>
                    <a:lnTo>
                      <a:pt x="41" y="422"/>
                    </a:lnTo>
                    <a:lnTo>
                      <a:pt x="22" y="395"/>
                    </a:lnTo>
                    <a:lnTo>
                      <a:pt x="10" y="365"/>
                    </a:lnTo>
                    <a:lnTo>
                      <a:pt x="2" y="335"/>
                    </a:lnTo>
                    <a:lnTo>
                      <a:pt x="0" y="303"/>
                    </a:lnTo>
                    <a:lnTo>
                      <a:pt x="2" y="272"/>
                    </a:lnTo>
                    <a:lnTo>
                      <a:pt x="10" y="242"/>
                    </a:lnTo>
                    <a:lnTo>
                      <a:pt x="22" y="212"/>
                    </a:lnTo>
                    <a:lnTo>
                      <a:pt x="41" y="184"/>
                    </a:lnTo>
                    <a:lnTo>
                      <a:pt x="62" y="158"/>
                    </a:lnTo>
                    <a:lnTo>
                      <a:pt x="87" y="133"/>
                    </a:lnTo>
                    <a:lnTo>
                      <a:pt x="115" y="109"/>
                    </a:lnTo>
                    <a:lnTo>
                      <a:pt x="149" y="87"/>
                    </a:lnTo>
                    <a:lnTo>
                      <a:pt x="183" y="69"/>
                    </a:lnTo>
                    <a:lnTo>
                      <a:pt x="223" y="52"/>
                    </a:lnTo>
                    <a:lnTo>
                      <a:pt x="265" y="35"/>
                    </a:lnTo>
                    <a:lnTo>
                      <a:pt x="310" y="22"/>
                    </a:lnTo>
                    <a:lnTo>
                      <a:pt x="356" y="12"/>
                    </a:lnTo>
                    <a:lnTo>
                      <a:pt x="404" y="5"/>
                    </a:lnTo>
                    <a:lnTo>
                      <a:pt x="455" y="1"/>
                    </a:lnTo>
                    <a:lnTo>
                      <a:pt x="506" y="0"/>
                    </a:lnTo>
                  </a:path>
                </a:pathLst>
              </a:custGeom>
              <a:solidFill>
                <a:srgbClr val="00c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019240" y="2236680"/>
                <a:ext cx="957600" cy="540720"/>
              </a:xfrm>
              <a:custGeom>
                <a:avLst/>
                <a:gdLst/>
                <a:ahLst/>
                <a:rect l="l" t="t" r="r" b="b"/>
                <a:pathLst>
                  <a:path w="964" h="538">
                    <a:moveTo>
                      <a:pt x="481" y="0"/>
                    </a:moveTo>
                    <a:lnTo>
                      <a:pt x="530" y="1"/>
                    </a:lnTo>
                    <a:lnTo>
                      <a:pt x="578" y="5"/>
                    </a:lnTo>
                    <a:lnTo>
                      <a:pt x="625" y="12"/>
                    </a:lnTo>
                    <a:lnTo>
                      <a:pt x="667" y="21"/>
                    </a:lnTo>
                    <a:lnTo>
                      <a:pt x="710" y="32"/>
                    </a:lnTo>
                    <a:lnTo>
                      <a:pt x="750" y="46"/>
                    </a:lnTo>
                    <a:lnTo>
                      <a:pt x="787" y="61"/>
                    </a:lnTo>
                    <a:lnTo>
                      <a:pt x="821" y="78"/>
                    </a:lnTo>
                    <a:lnTo>
                      <a:pt x="853" y="96"/>
                    </a:lnTo>
                    <a:lnTo>
                      <a:pt x="881" y="117"/>
                    </a:lnTo>
                    <a:lnTo>
                      <a:pt x="905" y="138"/>
                    </a:lnTo>
                    <a:lnTo>
                      <a:pt x="924" y="163"/>
                    </a:lnTo>
                    <a:lnTo>
                      <a:pt x="941" y="187"/>
                    </a:lnTo>
                    <a:lnTo>
                      <a:pt x="954" y="213"/>
                    </a:lnTo>
                    <a:lnTo>
                      <a:pt x="960" y="239"/>
                    </a:lnTo>
                    <a:lnTo>
                      <a:pt x="963" y="267"/>
                    </a:lnTo>
                    <a:lnTo>
                      <a:pt x="960" y="295"/>
                    </a:lnTo>
                    <a:lnTo>
                      <a:pt x="954" y="322"/>
                    </a:lnTo>
                    <a:lnTo>
                      <a:pt x="941" y="348"/>
                    </a:lnTo>
                    <a:lnTo>
                      <a:pt x="924" y="373"/>
                    </a:lnTo>
                    <a:lnTo>
                      <a:pt x="905" y="396"/>
                    </a:lnTo>
                    <a:lnTo>
                      <a:pt x="881" y="419"/>
                    </a:lnTo>
                    <a:lnTo>
                      <a:pt x="853" y="439"/>
                    </a:lnTo>
                    <a:lnTo>
                      <a:pt x="821" y="458"/>
                    </a:lnTo>
                    <a:lnTo>
                      <a:pt x="787" y="476"/>
                    </a:lnTo>
                    <a:lnTo>
                      <a:pt x="750" y="491"/>
                    </a:lnTo>
                    <a:lnTo>
                      <a:pt x="710" y="505"/>
                    </a:lnTo>
                    <a:lnTo>
                      <a:pt x="667" y="516"/>
                    </a:lnTo>
                    <a:lnTo>
                      <a:pt x="625" y="525"/>
                    </a:lnTo>
                    <a:lnTo>
                      <a:pt x="578" y="532"/>
                    </a:lnTo>
                    <a:lnTo>
                      <a:pt x="530" y="536"/>
                    </a:lnTo>
                    <a:lnTo>
                      <a:pt x="481" y="537"/>
                    </a:lnTo>
                    <a:lnTo>
                      <a:pt x="432" y="536"/>
                    </a:lnTo>
                    <a:lnTo>
                      <a:pt x="385" y="532"/>
                    </a:lnTo>
                    <a:lnTo>
                      <a:pt x="338" y="525"/>
                    </a:lnTo>
                    <a:lnTo>
                      <a:pt x="295" y="516"/>
                    </a:lnTo>
                    <a:lnTo>
                      <a:pt x="253" y="505"/>
                    </a:lnTo>
                    <a:lnTo>
                      <a:pt x="213" y="491"/>
                    </a:lnTo>
                    <a:lnTo>
                      <a:pt x="176" y="476"/>
                    </a:lnTo>
                    <a:lnTo>
                      <a:pt x="142" y="458"/>
                    </a:lnTo>
                    <a:lnTo>
                      <a:pt x="110" y="439"/>
                    </a:lnTo>
                    <a:lnTo>
                      <a:pt x="82" y="419"/>
                    </a:lnTo>
                    <a:lnTo>
                      <a:pt x="58" y="396"/>
                    </a:lnTo>
                    <a:lnTo>
                      <a:pt x="39" y="373"/>
                    </a:lnTo>
                    <a:lnTo>
                      <a:pt x="22" y="348"/>
                    </a:lnTo>
                    <a:lnTo>
                      <a:pt x="9" y="322"/>
                    </a:lnTo>
                    <a:lnTo>
                      <a:pt x="3" y="295"/>
                    </a:lnTo>
                    <a:lnTo>
                      <a:pt x="0" y="267"/>
                    </a:lnTo>
                    <a:lnTo>
                      <a:pt x="3" y="239"/>
                    </a:lnTo>
                    <a:lnTo>
                      <a:pt x="9" y="213"/>
                    </a:lnTo>
                    <a:lnTo>
                      <a:pt x="22" y="187"/>
                    </a:lnTo>
                    <a:lnTo>
                      <a:pt x="39" y="163"/>
                    </a:lnTo>
                    <a:lnTo>
                      <a:pt x="58" y="138"/>
                    </a:lnTo>
                    <a:lnTo>
                      <a:pt x="82" y="117"/>
                    </a:lnTo>
                    <a:lnTo>
                      <a:pt x="110" y="96"/>
                    </a:lnTo>
                    <a:lnTo>
                      <a:pt x="142" y="78"/>
                    </a:lnTo>
                    <a:lnTo>
                      <a:pt x="176" y="61"/>
                    </a:lnTo>
                    <a:lnTo>
                      <a:pt x="213" y="46"/>
                    </a:lnTo>
                    <a:lnTo>
                      <a:pt x="253" y="32"/>
                    </a:lnTo>
                    <a:lnTo>
                      <a:pt x="295" y="21"/>
                    </a:lnTo>
                    <a:lnTo>
                      <a:pt x="338" y="12"/>
                    </a:lnTo>
                    <a:lnTo>
                      <a:pt x="385" y="5"/>
                    </a:lnTo>
                    <a:lnTo>
                      <a:pt x="432" y="1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00c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14400" y="1855440"/>
                <a:ext cx="957240" cy="542880"/>
              </a:xfrm>
              <a:custGeom>
                <a:avLst/>
                <a:gdLst/>
                <a:ahLst/>
                <a:rect l="l" t="t" r="r" b="b"/>
                <a:pathLst>
                  <a:path w="964" h="540">
                    <a:moveTo>
                      <a:pt x="482" y="0"/>
                    </a:moveTo>
                    <a:lnTo>
                      <a:pt x="530" y="1"/>
                    </a:lnTo>
                    <a:lnTo>
                      <a:pt x="578" y="4"/>
                    </a:lnTo>
                    <a:lnTo>
                      <a:pt x="623" y="11"/>
                    </a:lnTo>
                    <a:lnTo>
                      <a:pt x="668" y="20"/>
                    </a:lnTo>
                    <a:lnTo>
                      <a:pt x="711" y="31"/>
                    </a:lnTo>
                    <a:lnTo>
                      <a:pt x="750" y="46"/>
                    </a:lnTo>
                    <a:lnTo>
                      <a:pt x="788" y="61"/>
                    </a:lnTo>
                    <a:lnTo>
                      <a:pt x="822" y="77"/>
                    </a:lnTo>
                    <a:lnTo>
                      <a:pt x="853" y="97"/>
                    </a:lnTo>
                    <a:lnTo>
                      <a:pt x="880" y="117"/>
                    </a:lnTo>
                    <a:lnTo>
                      <a:pt x="906" y="140"/>
                    </a:lnTo>
                    <a:lnTo>
                      <a:pt x="925" y="163"/>
                    </a:lnTo>
                    <a:lnTo>
                      <a:pt x="941" y="188"/>
                    </a:lnTo>
                    <a:lnTo>
                      <a:pt x="955" y="214"/>
                    </a:lnTo>
                    <a:lnTo>
                      <a:pt x="961" y="241"/>
                    </a:lnTo>
                    <a:lnTo>
                      <a:pt x="963" y="269"/>
                    </a:lnTo>
                    <a:lnTo>
                      <a:pt x="961" y="297"/>
                    </a:lnTo>
                    <a:lnTo>
                      <a:pt x="955" y="324"/>
                    </a:lnTo>
                    <a:lnTo>
                      <a:pt x="941" y="350"/>
                    </a:lnTo>
                    <a:lnTo>
                      <a:pt x="925" y="374"/>
                    </a:lnTo>
                    <a:lnTo>
                      <a:pt x="906" y="398"/>
                    </a:lnTo>
                    <a:lnTo>
                      <a:pt x="880" y="420"/>
                    </a:lnTo>
                    <a:lnTo>
                      <a:pt x="853" y="440"/>
                    </a:lnTo>
                    <a:lnTo>
                      <a:pt x="822" y="459"/>
                    </a:lnTo>
                    <a:lnTo>
                      <a:pt x="788" y="477"/>
                    </a:lnTo>
                    <a:lnTo>
                      <a:pt x="750" y="492"/>
                    </a:lnTo>
                    <a:lnTo>
                      <a:pt x="711" y="507"/>
                    </a:lnTo>
                    <a:lnTo>
                      <a:pt x="668" y="517"/>
                    </a:lnTo>
                    <a:lnTo>
                      <a:pt x="623" y="527"/>
                    </a:lnTo>
                    <a:lnTo>
                      <a:pt x="578" y="534"/>
                    </a:lnTo>
                    <a:lnTo>
                      <a:pt x="530" y="537"/>
                    </a:lnTo>
                    <a:lnTo>
                      <a:pt x="482" y="539"/>
                    </a:lnTo>
                    <a:lnTo>
                      <a:pt x="433" y="537"/>
                    </a:lnTo>
                    <a:lnTo>
                      <a:pt x="386" y="534"/>
                    </a:lnTo>
                    <a:lnTo>
                      <a:pt x="339" y="527"/>
                    </a:lnTo>
                    <a:lnTo>
                      <a:pt x="294" y="517"/>
                    </a:lnTo>
                    <a:lnTo>
                      <a:pt x="253" y="507"/>
                    </a:lnTo>
                    <a:lnTo>
                      <a:pt x="212" y="492"/>
                    </a:lnTo>
                    <a:lnTo>
                      <a:pt x="175" y="477"/>
                    </a:lnTo>
                    <a:lnTo>
                      <a:pt x="142" y="459"/>
                    </a:lnTo>
                    <a:lnTo>
                      <a:pt x="109" y="440"/>
                    </a:lnTo>
                    <a:lnTo>
                      <a:pt x="82" y="420"/>
                    </a:lnTo>
                    <a:lnTo>
                      <a:pt x="58" y="398"/>
                    </a:lnTo>
                    <a:lnTo>
                      <a:pt x="39" y="374"/>
                    </a:lnTo>
                    <a:lnTo>
                      <a:pt x="21" y="350"/>
                    </a:lnTo>
                    <a:lnTo>
                      <a:pt x="9" y="324"/>
                    </a:lnTo>
                    <a:lnTo>
                      <a:pt x="3" y="297"/>
                    </a:lnTo>
                    <a:lnTo>
                      <a:pt x="0" y="269"/>
                    </a:lnTo>
                    <a:lnTo>
                      <a:pt x="3" y="241"/>
                    </a:lnTo>
                    <a:lnTo>
                      <a:pt x="9" y="214"/>
                    </a:lnTo>
                    <a:lnTo>
                      <a:pt x="21" y="188"/>
                    </a:lnTo>
                    <a:lnTo>
                      <a:pt x="39" y="163"/>
                    </a:lnTo>
                    <a:lnTo>
                      <a:pt x="58" y="140"/>
                    </a:lnTo>
                    <a:lnTo>
                      <a:pt x="82" y="117"/>
                    </a:lnTo>
                    <a:lnTo>
                      <a:pt x="109" y="97"/>
                    </a:lnTo>
                    <a:lnTo>
                      <a:pt x="142" y="77"/>
                    </a:lnTo>
                    <a:lnTo>
                      <a:pt x="175" y="61"/>
                    </a:lnTo>
                    <a:lnTo>
                      <a:pt x="212" y="46"/>
                    </a:lnTo>
                    <a:lnTo>
                      <a:pt x="253" y="31"/>
                    </a:lnTo>
                    <a:lnTo>
                      <a:pt x="294" y="20"/>
                    </a:lnTo>
                    <a:lnTo>
                      <a:pt x="339" y="11"/>
                    </a:lnTo>
                    <a:lnTo>
                      <a:pt x="386" y="4"/>
                    </a:lnTo>
                    <a:lnTo>
                      <a:pt x="433" y="1"/>
                    </a:lnTo>
                    <a:lnTo>
                      <a:pt x="482" y="0"/>
                    </a:lnTo>
                  </a:path>
                </a:pathLst>
              </a:custGeom>
              <a:solidFill>
                <a:srgbClr val="00c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79520" y="1676520"/>
                <a:ext cx="955800" cy="542520"/>
              </a:xfrm>
              <a:custGeom>
                <a:avLst/>
                <a:gdLst/>
                <a:ahLst/>
                <a:rect l="l" t="t" r="r" b="b"/>
                <a:pathLst>
                  <a:path w="963" h="540">
                    <a:moveTo>
                      <a:pt x="481" y="0"/>
                    </a:moveTo>
                    <a:lnTo>
                      <a:pt x="530" y="1"/>
                    </a:lnTo>
                    <a:lnTo>
                      <a:pt x="578" y="5"/>
                    </a:lnTo>
                    <a:lnTo>
                      <a:pt x="623" y="12"/>
                    </a:lnTo>
                    <a:lnTo>
                      <a:pt x="667" y="21"/>
                    </a:lnTo>
                    <a:lnTo>
                      <a:pt x="710" y="32"/>
                    </a:lnTo>
                    <a:lnTo>
                      <a:pt x="750" y="46"/>
                    </a:lnTo>
                    <a:lnTo>
                      <a:pt x="787" y="61"/>
                    </a:lnTo>
                    <a:lnTo>
                      <a:pt x="821" y="78"/>
                    </a:lnTo>
                    <a:lnTo>
                      <a:pt x="852" y="97"/>
                    </a:lnTo>
                    <a:lnTo>
                      <a:pt x="879" y="117"/>
                    </a:lnTo>
                    <a:lnTo>
                      <a:pt x="905" y="141"/>
                    </a:lnTo>
                    <a:lnTo>
                      <a:pt x="925" y="163"/>
                    </a:lnTo>
                    <a:lnTo>
                      <a:pt x="940" y="189"/>
                    </a:lnTo>
                    <a:lnTo>
                      <a:pt x="954" y="214"/>
                    </a:lnTo>
                    <a:lnTo>
                      <a:pt x="960" y="241"/>
                    </a:lnTo>
                    <a:lnTo>
                      <a:pt x="962" y="270"/>
                    </a:lnTo>
                    <a:lnTo>
                      <a:pt x="960" y="298"/>
                    </a:lnTo>
                    <a:lnTo>
                      <a:pt x="954" y="325"/>
                    </a:lnTo>
                    <a:lnTo>
                      <a:pt x="940" y="350"/>
                    </a:lnTo>
                    <a:lnTo>
                      <a:pt x="925" y="374"/>
                    </a:lnTo>
                    <a:lnTo>
                      <a:pt x="905" y="398"/>
                    </a:lnTo>
                    <a:lnTo>
                      <a:pt x="879" y="421"/>
                    </a:lnTo>
                    <a:lnTo>
                      <a:pt x="852" y="440"/>
                    </a:lnTo>
                    <a:lnTo>
                      <a:pt x="821" y="460"/>
                    </a:lnTo>
                    <a:lnTo>
                      <a:pt x="787" y="478"/>
                    </a:lnTo>
                    <a:lnTo>
                      <a:pt x="750" y="493"/>
                    </a:lnTo>
                    <a:lnTo>
                      <a:pt x="710" y="507"/>
                    </a:lnTo>
                    <a:lnTo>
                      <a:pt x="667" y="517"/>
                    </a:lnTo>
                    <a:lnTo>
                      <a:pt x="623" y="527"/>
                    </a:lnTo>
                    <a:lnTo>
                      <a:pt x="578" y="534"/>
                    </a:lnTo>
                    <a:lnTo>
                      <a:pt x="530" y="538"/>
                    </a:lnTo>
                    <a:lnTo>
                      <a:pt x="481" y="539"/>
                    </a:lnTo>
                    <a:lnTo>
                      <a:pt x="432" y="538"/>
                    </a:lnTo>
                    <a:lnTo>
                      <a:pt x="384" y="534"/>
                    </a:lnTo>
                    <a:lnTo>
                      <a:pt x="338" y="527"/>
                    </a:lnTo>
                    <a:lnTo>
                      <a:pt x="295" y="517"/>
                    </a:lnTo>
                    <a:lnTo>
                      <a:pt x="253" y="507"/>
                    </a:lnTo>
                    <a:lnTo>
                      <a:pt x="212" y="493"/>
                    </a:lnTo>
                    <a:lnTo>
                      <a:pt x="176" y="478"/>
                    </a:lnTo>
                    <a:lnTo>
                      <a:pt x="142" y="460"/>
                    </a:lnTo>
                    <a:lnTo>
                      <a:pt x="109" y="440"/>
                    </a:lnTo>
                    <a:lnTo>
                      <a:pt x="82" y="421"/>
                    </a:lnTo>
                    <a:lnTo>
                      <a:pt x="58" y="398"/>
                    </a:lnTo>
                    <a:lnTo>
                      <a:pt x="39" y="374"/>
                    </a:lnTo>
                    <a:lnTo>
                      <a:pt x="21" y="350"/>
                    </a:lnTo>
                    <a:lnTo>
                      <a:pt x="9" y="325"/>
                    </a:lnTo>
                    <a:lnTo>
                      <a:pt x="3" y="298"/>
                    </a:lnTo>
                    <a:lnTo>
                      <a:pt x="0" y="270"/>
                    </a:lnTo>
                    <a:lnTo>
                      <a:pt x="3" y="241"/>
                    </a:lnTo>
                    <a:lnTo>
                      <a:pt x="9" y="214"/>
                    </a:lnTo>
                    <a:lnTo>
                      <a:pt x="21" y="189"/>
                    </a:lnTo>
                    <a:lnTo>
                      <a:pt x="39" y="163"/>
                    </a:lnTo>
                    <a:lnTo>
                      <a:pt x="58" y="141"/>
                    </a:lnTo>
                    <a:lnTo>
                      <a:pt x="82" y="117"/>
                    </a:lnTo>
                    <a:lnTo>
                      <a:pt x="109" y="97"/>
                    </a:lnTo>
                    <a:lnTo>
                      <a:pt x="142" y="78"/>
                    </a:lnTo>
                    <a:lnTo>
                      <a:pt x="176" y="61"/>
                    </a:lnTo>
                    <a:lnTo>
                      <a:pt x="212" y="46"/>
                    </a:lnTo>
                    <a:lnTo>
                      <a:pt x="253" y="32"/>
                    </a:lnTo>
                    <a:lnTo>
                      <a:pt x="295" y="21"/>
                    </a:lnTo>
                    <a:lnTo>
                      <a:pt x="338" y="12"/>
                    </a:lnTo>
                    <a:lnTo>
                      <a:pt x="384" y="5"/>
                    </a:lnTo>
                    <a:lnTo>
                      <a:pt x="432" y="1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00c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21040" y="1787400"/>
                <a:ext cx="1724040" cy="931320"/>
              </a:xfrm>
              <a:custGeom>
                <a:avLst/>
                <a:gdLst/>
                <a:ahLst/>
                <a:rect l="l" t="t" r="r" b="b"/>
                <a:pathLst>
                  <a:path w="1738" h="926">
                    <a:moveTo>
                      <a:pt x="31" y="306"/>
                    </a:moveTo>
                    <a:lnTo>
                      <a:pt x="35" y="305"/>
                    </a:lnTo>
                    <a:lnTo>
                      <a:pt x="40" y="299"/>
                    </a:lnTo>
                    <a:lnTo>
                      <a:pt x="47" y="291"/>
                    </a:lnTo>
                    <a:lnTo>
                      <a:pt x="52" y="281"/>
                    </a:lnTo>
                    <a:lnTo>
                      <a:pt x="57" y="272"/>
                    </a:lnTo>
                    <a:lnTo>
                      <a:pt x="63" y="263"/>
                    </a:lnTo>
                    <a:lnTo>
                      <a:pt x="68" y="258"/>
                    </a:lnTo>
                    <a:lnTo>
                      <a:pt x="73" y="255"/>
                    </a:lnTo>
                    <a:lnTo>
                      <a:pt x="93" y="255"/>
                    </a:lnTo>
                    <a:lnTo>
                      <a:pt x="116" y="254"/>
                    </a:lnTo>
                    <a:lnTo>
                      <a:pt x="143" y="253"/>
                    </a:lnTo>
                    <a:lnTo>
                      <a:pt x="172" y="250"/>
                    </a:lnTo>
                    <a:lnTo>
                      <a:pt x="202" y="247"/>
                    </a:lnTo>
                    <a:lnTo>
                      <a:pt x="234" y="242"/>
                    </a:lnTo>
                    <a:lnTo>
                      <a:pt x="266" y="235"/>
                    </a:lnTo>
                    <a:lnTo>
                      <a:pt x="298" y="229"/>
                    </a:lnTo>
                    <a:lnTo>
                      <a:pt x="330" y="221"/>
                    </a:lnTo>
                    <a:lnTo>
                      <a:pt x="362" y="213"/>
                    </a:lnTo>
                    <a:lnTo>
                      <a:pt x="391" y="203"/>
                    </a:lnTo>
                    <a:lnTo>
                      <a:pt x="420" y="192"/>
                    </a:lnTo>
                    <a:lnTo>
                      <a:pt x="448" y="181"/>
                    </a:lnTo>
                    <a:lnTo>
                      <a:pt x="471" y="168"/>
                    </a:lnTo>
                    <a:lnTo>
                      <a:pt x="491" y="154"/>
                    </a:lnTo>
                    <a:lnTo>
                      <a:pt x="509" y="139"/>
                    </a:lnTo>
                    <a:lnTo>
                      <a:pt x="509" y="123"/>
                    </a:lnTo>
                    <a:lnTo>
                      <a:pt x="552" y="87"/>
                    </a:lnTo>
                    <a:lnTo>
                      <a:pt x="598" y="57"/>
                    </a:lnTo>
                    <a:lnTo>
                      <a:pt x="646" y="33"/>
                    </a:lnTo>
                    <a:lnTo>
                      <a:pt x="697" y="17"/>
                    </a:lnTo>
                    <a:lnTo>
                      <a:pt x="749" y="6"/>
                    </a:lnTo>
                    <a:lnTo>
                      <a:pt x="803" y="0"/>
                    </a:lnTo>
                    <a:lnTo>
                      <a:pt x="857" y="0"/>
                    </a:lnTo>
                    <a:lnTo>
                      <a:pt x="912" y="2"/>
                    </a:lnTo>
                    <a:lnTo>
                      <a:pt x="968" y="11"/>
                    </a:lnTo>
                    <a:lnTo>
                      <a:pt x="1023" y="20"/>
                    </a:lnTo>
                    <a:lnTo>
                      <a:pt x="1077" y="34"/>
                    </a:lnTo>
                    <a:lnTo>
                      <a:pt x="1131" y="50"/>
                    </a:lnTo>
                    <a:lnTo>
                      <a:pt x="1183" y="66"/>
                    </a:lnTo>
                    <a:lnTo>
                      <a:pt x="1235" y="86"/>
                    </a:lnTo>
                    <a:lnTo>
                      <a:pt x="1284" y="104"/>
                    </a:lnTo>
                    <a:lnTo>
                      <a:pt x="1331" y="123"/>
                    </a:lnTo>
                    <a:lnTo>
                      <a:pt x="1352" y="132"/>
                    </a:lnTo>
                    <a:lnTo>
                      <a:pt x="1374" y="140"/>
                    </a:lnTo>
                    <a:lnTo>
                      <a:pt x="1395" y="147"/>
                    </a:lnTo>
                    <a:lnTo>
                      <a:pt x="1417" y="153"/>
                    </a:lnTo>
                    <a:lnTo>
                      <a:pt x="1439" y="159"/>
                    </a:lnTo>
                    <a:lnTo>
                      <a:pt x="1462" y="165"/>
                    </a:lnTo>
                    <a:lnTo>
                      <a:pt x="1485" y="172"/>
                    </a:lnTo>
                    <a:lnTo>
                      <a:pt x="1506" y="177"/>
                    </a:lnTo>
                    <a:lnTo>
                      <a:pt x="1529" y="184"/>
                    </a:lnTo>
                    <a:lnTo>
                      <a:pt x="1550" y="191"/>
                    </a:lnTo>
                    <a:lnTo>
                      <a:pt x="1572" y="199"/>
                    </a:lnTo>
                    <a:lnTo>
                      <a:pt x="1595" y="207"/>
                    </a:lnTo>
                    <a:lnTo>
                      <a:pt x="1615" y="218"/>
                    </a:lnTo>
                    <a:lnTo>
                      <a:pt x="1636" y="229"/>
                    </a:lnTo>
                    <a:lnTo>
                      <a:pt x="1655" y="242"/>
                    </a:lnTo>
                    <a:lnTo>
                      <a:pt x="1675" y="255"/>
                    </a:lnTo>
                    <a:lnTo>
                      <a:pt x="1678" y="258"/>
                    </a:lnTo>
                    <a:lnTo>
                      <a:pt x="1683" y="261"/>
                    </a:lnTo>
                    <a:lnTo>
                      <a:pt x="1692" y="267"/>
                    </a:lnTo>
                    <a:lnTo>
                      <a:pt x="1702" y="272"/>
                    </a:lnTo>
                    <a:lnTo>
                      <a:pt x="1712" y="278"/>
                    </a:lnTo>
                    <a:lnTo>
                      <a:pt x="1723" y="284"/>
                    </a:lnTo>
                    <a:lnTo>
                      <a:pt x="1732" y="288"/>
                    </a:lnTo>
                    <a:lnTo>
                      <a:pt x="1737" y="289"/>
                    </a:lnTo>
                    <a:lnTo>
                      <a:pt x="1736" y="310"/>
                    </a:lnTo>
                    <a:lnTo>
                      <a:pt x="1732" y="333"/>
                    </a:lnTo>
                    <a:lnTo>
                      <a:pt x="1727" y="359"/>
                    </a:lnTo>
                    <a:lnTo>
                      <a:pt x="1721" y="385"/>
                    </a:lnTo>
                    <a:lnTo>
                      <a:pt x="1713" y="412"/>
                    </a:lnTo>
                    <a:lnTo>
                      <a:pt x="1707" y="436"/>
                    </a:lnTo>
                    <a:lnTo>
                      <a:pt x="1701" y="455"/>
                    </a:lnTo>
                    <a:lnTo>
                      <a:pt x="1696" y="471"/>
                    </a:lnTo>
                    <a:lnTo>
                      <a:pt x="1685" y="471"/>
                    </a:lnTo>
                    <a:lnTo>
                      <a:pt x="1675" y="590"/>
                    </a:lnTo>
                    <a:lnTo>
                      <a:pt x="1665" y="593"/>
                    </a:lnTo>
                    <a:lnTo>
                      <a:pt x="1665" y="597"/>
                    </a:lnTo>
                    <a:lnTo>
                      <a:pt x="1664" y="604"/>
                    </a:lnTo>
                    <a:lnTo>
                      <a:pt x="1655" y="607"/>
                    </a:lnTo>
                    <a:lnTo>
                      <a:pt x="1655" y="656"/>
                    </a:lnTo>
                    <a:lnTo>
                      <a:pt x="1649" y="660"/>
                    </a:lnTo>
                    <a:lnTo>
                      <a:pt x="1644" y="667"/>
                    </a:lnTo>
                    <a:lnTo>
                      <a:pt x="1640" y="676"/>
                    </a:lnTo>
                    <a:lnTo>
                      <a:pt x="1636" y="690"/>
                    </a:lnTo>
                    <a:lnTo>
                      <a:pt x="1632" y="702"/>
                    </a:lnTo>
                    <a:lnTo>
                      <a:pt x="1627" y="712"/>
                    </a:lnTo>
                    <a:lnTo>
                      <a:pt x="1622" y="720"/>
                    </a:lnTo>
                    <a:lnTo>
                      <a:pt x="1614" y="723"/>
                    </a:lnTo>
                    <a:lnTo>
                      <a:pt x="1612" y="735"/>
                    </a:lnTo>
                    <a:lnTo>
                      <a:pt x="1607" y="747"/>
                    </a:lnTo>
                    <a:lnTo>
                      <a:pt x="1601" y="758"/>
                    </a:lnTo>
                    <a:lnTo>
                      <a:pt x="1595" y="772"/>
                    </a:lnTo>
                    <a:lnTo>
                      <a:pt x="1587" y="783"/>
                    </a:lnTo>
                    <a:lnTo>
                      <a:pt x="1581" y="792"/>
                    </a:lnTo>
                    <a:lnTo>
                      <a:pt x="1576" y="800"/>
                    </a:lnTo>
                    <a:lnTo>
                      <a:pt x="1574" y="807"/>
                    </a:lnTo>
                    <a:lnTo>
                      <a:pt x="1158" y="874"/>
                    </a:lnTo>
                    <a:lnTo>
                      <a:pt x="1135" y="876"/>
                    </a:lnTo>
                    <a:lnTo>
                      <a:pt x="1110" y="876"/>
                    </a:lnTo>
                    <a:lnTo>
                      <a:pt x="1081" y="876"/>
                    </a:lnTo>
                    <a:lnTo>
                      <a:pt x="1049" y="873"/>
                    </a:lnTo>
                    <a:lnTo>
                      <a:pt x="1018" y="869"/>
                    </a:lnTo>
                    <a:lnTo>
                      <a:pt x="984" y="866"/>
                    </a:lnTo>
                    <a:lnTo>
                      <a:pt x="949" y="865"/>
                    </a:lnTo>
                    <a:lnTo>
                      <a:pt x="914" y="862"/>
                    </a:lnTo>
                    <a:lnTo>
                      <a:pt x="881" y="862"/>
                    </a:lnTo>
                    <a:lnTo>
                      <a:pt x="848" y="862"/>
                    </a:lnTo>
                    <a:lnTo>
                      <a:pt x="816" y="865"/>
                    </a:lnTo>
                    <a:lnTo>
                      <a:pt x="788" y="869"/>
                    </a:lnTo>
                    <a:lnTo>
                      <a:pt x="760" y="879"/>
                    </a:lnTo>
                    <a:lnTo>
                      <a:pt x="737" y="891"/>
                    </a:lnTo>
                    <a:lnTo>
                      <a:pt x="716" y="906"/>
                    </a:lnTo>
                    <a:lnTo>
                      <a:pt x="701" y="925"/>
                    </a:lnTo>
                    <a:lnTo>
                      <a:pt x="689" y="925"/>
                    </a:lnTo>
                    <a:lnTo>
                      <a:pt x="677" y="922"/>
                    </a:lnTo>
                    <a:lnTo>
                      <a:pt x="664" y="921"/>
                    </a:lnTo>
                    <a:lnTo>
                      <a:pt x="651" y="915"/>
                    </a:lnTo>
                    <a:lnTo>
                      <a:pt x="640" y="912"/>
                    </a:lnTo>
                    <a:lnTo>
                      <a:pt x="628" y="911"/>
                    </a:lnTo>
                    <a:lnTo>
                      <a:pt x="619" y="907"/>
                    </a:lnTo>
                    <a:lnTo>
                      <a:pt x="610" y="907"/>
                    </a:lnTo>
                    <a:lnTo>
                      <a:pt x="597" y="904"/>
                    </a:lnTo>
                    <a:lnTo>
                      <a:pt x="582" y="904"/>
                    </a:lnTo>
                    <a:lnTo>
                      <a:pt x="566" y="903"/>
                    </a:lnTo>
                    <a:lnTo>
                      <a:pt x="548" y="903"/>
                    </a:lnTo>
                    <a:lnTo>
                      <a:pt x="527" y="903"/>
                    </a:lnTo>
                    <a:lnTo>
                      <a:pt x="507" y="904"/>
                    </a:lnTo>
                    <a:lnTo>
                      <a:pt x="486" y="906"/>
                    </a:lnTo>
                    <a:lnTo>
                      <a:pt x="466" y="906"/>
                    </a:lnTo>
                    <a:lnTo>
                      <a:pt x="445" y="907"/>
                    </a:lnTo>
                    <a:lnTo>
                      <a:pt x="424" y="907"/>
                    </a:lnTo>
                    <a:lnTo>
                      <a:pt x="405" y="907"/>
                    </a:lnTo>
                    <a:lnTo>
                      <a:pt x="386" y="906"/>
                    </a:lnTo>
                    <a:lnTo>
                      <a:pt x="371" y="904"/>
                    </a:lnTo>
                    <a:lnTo>
                      <a:pt x="357" y="902"/>
                    </a:lnTo>
                    <a:lnTo>
                      <a:pt x="345" y="896"/>
                    </a:lnTo>
                    <a:lnTo>
                      <a:pt x="336" y="892"/>
                    </a:lnTo>
                    <a:lnTo>
                      <a:pt x="336" y="874"/>
                    </a:lnTo>
                    <a:lnTo>
                      <a:pt x="321" y="869"/>
                    </a:lnTo>
                    <a:lnTo>
                      <a:pt x="298" y="866"/>
                    </a:lnTo>
                    <a:lnTo>
                      <a:pt x="271" y="862"/>
                    </a:lnTo>
                    <a:lnTo>
                      <a:pt x="242" y="857"/>
                    </a:lnTo>
                    <a:lnTo>
                      <a:pt x="217" y="848"/>
                    </a:lnTo>
                    <a:lnTo>
                      <a:pt x="193" y="836"/>
                    </a:lnTo>
                    <a:lnTo>
                      <a:pt x="178" y="817"/>
                    </a:lnTo>
                    <a:lnTo>
                      <a:pt x="173" y="791"/>
                    </a:lnTo>
                    <a:lnTo>
                      <a:pt x="133" y="791"/>
                    </a:lnTo>
                    <a:lnTo>
                      <a:pt x="194" y="673"/>
                    </a:lnTo>
                    <a:lnTo>
                      <a:pt x="122" y="740"/>
                    </a:lnTo>
                    <a:lnTo>
                      <a:pt x="112" y="723"/>
                    </a:lnTo>
                    <a:lnTo>
                      <a:pt x="133" y="673"/>
                    </a:lnTo>
                    <a:lnTo>
                      <a:pt x="133" y="640"/>
                    </a:lnTo>
                    <a:lnTo>
                      <a:pt x="73" y="691"/>
                    </a:lnTo>
                    <a:lnTo>
                      <a:pt x="74" y="682"/>
                    </a:lnTo>
                    <a:lnTo>
                      <a:pt x="79" y="665"/>
                    </a:lnTo>
                    <a:lnTo>
                      <a:pt x="85" y="645"/>
                    </a:lnTo>
                    <a:lnTo>
                      <a:pt x="92" y="624"/>
                    </a:lnTo>
                    <a:lnTo>
                      <a:pt x="97" y="605"/>
                    </a:lnTo>
                    <a:lnTo>
                      <a:pt x="102" y="587"/>
                    </a:lnTo>
                    <a:lnTo>
                      <a:pt x="104" y="577"/>
                    </a:lnTo>
                    <a:lnTo>
                      <a:pt x="102" y="572"/>
                    </a:lnTo>
                    <a:lnTo>
                      <a:pt x="98" y="563"/>
                    </a:lnTo>
                    <a:lnTo>
                      <a:pt x="90" y="555"/>
                    </a:lnTo>
                    <a:lnTo>
                      <a:pt x="77" y="552"/>
                    </a:lnTo>
                    <a:lnTo>
                      <a:pt x="62" y="550"/>
                    </a:lnTo>
                    <a:lnTo>
                      <a:pt x="45" y="549"/>
                    </a:lnTo>
                    <a:lnTo>
                      <a:pt x="31" y="546"/>
                    </a:lnTo>
                    <a:lnTo>
                      <a:pt x="19" y="544"/>
                    </a:lnTo>
                    <a:lnTo>
                      <a:pt x="13" y="539"/>
                    </a:lnTo>
                    <a:lnTo>
                      <a:pt x="3" y="539"/>
                    </a:lnTo>
                    <a:lnTo>
                      <a:pt x="0" y="493"/>
                    </a:lnTo>
                    <a:lnTo>
                      <a:pt x="5" y="423"/>
                    </a:lnTo>
                    <a:lnTo>
                      <a:pt x="14" y="358"/>
                    </a:lnTo>
                    <a:lnTo>
                      <a:pt x="24" y="321"/>
                    </a:lnTo>
                    <a:lnTo>
                      <a:pt x="31" y="321"/>
                    </a:lnTo>
                    <a:lnTo>
                      <a:pt x="31" y="289"/>
                    </a:lnTo>
                    <a:lnTo>
                      <a:pt x="31" y="306"/>
                    </a:lnTo>
                  </a:path>
                </a:pathLst>
              </a:custGeom>
              <a:solidFill>
                <a:srgbClr val="00c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320840" y="1993680"/>
                <a:ext cx="504720" cy="458280"/>
              </a:xfrm>
              <a:custGeom>
                <a:avLst/>
                <a:gdLst/>
                <a:ahLst/>
                <a:rect l="l" t="t" r="r" b="b"/>
                <a:pathLst>
                  <a:path w="510" h="457">
                    <a:moveTo>
                      <a:pt x="0" y="0"/>
                    </a:moveTo>
                    <a:lnTo>
                      <a:pt x="0" y="456"/>
                    </a:lnTo>
                    <a:lnTo>
                      <a:pt x="509" y="456"/>
                    </a:lnTo>
                    <a:lnTo>
                      <a:pt x="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57560" y="2027160"/>
                <a:ext cx="431640" cy="394920"/>
              </a:xfrm>
              <a:custGeom>
                <a:avLst/>
                <a:gdLst/>
                <a:ahLst/>
                <a:rect l="l" t="t" r="r" b="b"/>
                <a:pathLst>
                  <a:path w="434" h="393">
                    <a:moveTo>
                      <a:pt x="0" y="0"/>
                    </a:moveTo>
                    <a:lnTo>
                      <a:pt x="0" y="392"/>
                    </a:lnTo>
                    <a:lnTo>
                      <a:pt x="433" y="392"/>
                    </a:lnTo>
                    <a:lnTo>
                      <a:pt x="4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20840" y="1993680"/>
                <a:ext cx="509760" cy="463320"/>
              </a:xfrm>
              <a:custGeom>
                <a:avLst/>
                <a:gdLst/>
                <a:ahLst/>
                <a:rect l="l" t="t" r="r" b="b"/>
                <a:pathLst>
                  <a:path w="514" h="461">
                    <a:moveTo>
                      <a:pt x="0" y="0"/>
                    </a:moveTo>
                    <a:lnTo>
                      <a:pt x="0" y="460"/>
                    </a:lnTo>
                    <a:lnTo>
                      <a:pt x="513" y="460"/>
                    </a:lnTo>
                    <a:lnTo>
                      <a:pt x="513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57560" y="2027160"/>
                <a:ext cx="436320" cy="397800"/>
              </a:xfrm>
              <a:custGeom>
                <a:avLst/>
                <a:gdLst/>
                <a:ahLst/>
                <a:rect l="l" t="t" r="r" b="b"/>
                <a:pathLst>
                  <a:path w="439" h="396">
                    <a:moveTo>
                      <a:pt x="0" y="0"/>
                    </a:moveTo>
                    <a:lnTo>
                      <a:pt x="0" y="395"/>
                    </a:lnTo>
                    <a:lnTo>
                      <a:pt x="438" y="395"/>
                    </a:lnTo>
                    <a:lnTo>
                      <a:pt x="4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08160" y="1990440"/>
                <a:ext cx="728640" cy="26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280" rIns="98280" tIns="49320" bIns="493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Men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190880" y="2469960"/>
                <a:ext cx="760320" cy="93240"/>
                <a:chOff x="1190880" y="2469960"/>
                <a:chExt cx="760320" cy="932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190880" y="2469960"/>
                  <a:ext cx="757080" cy="91080"/>
                </a:xfrm>
                <a:custGeom>
                  <a:avLst/>
                  <a:gdLst/>
                  <a:ahLst/>
                  <a:rect l="l" t="t" r="r" b="b"/>
                  <a:pathLst>
                    <a:path w="763" h="91">
                      <a:moveTo>
                        <a:pt x="762" y="90"/>
                      </a:move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69" y="0"/>
                      </a:lnTo>
                      <a:lnTo>
                        <a:pt x="690" y="0"/>
                      </a:lnTo>
                      <a:lnTo>
                        <a:pt x="762" y="78"/>
                      </a:lnTo>
                      <a:lnTo>
                        <a:pt x="762" y="9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190880" y="2469960"/>
                  <a:ext cx="760320" cy="93240"/>
                </a:xfrm>
                <a:custGeom>
                  <a:avLst/>
                  <a:gdLst/>
                  <a:ahLst/>
                  <a:rect l="l" t="t" r="r" b="b"/>
                  <a:pathLst>
                    <a:path w="766" h="93">
                      <a:moveTo>
                        <a:pt x="765" y="92"/>
                      </a:move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69" y="0"/>
                      </a:lnTo>
                      <a:lnTo>
                        <a:pt x="693" y="0"/>
                      </a:lnTo>
                      <a:lnTo>
                        <a:pt x="765" y="79"/>
                      </a:lnTo>
                      <a:lnTo>
                        <a:pt x="765" y="9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09240" y="2474640"/>
                  <a:ext cx="718560" cy="72000"/>
                </a:xfrm>
                <a:custGeom>
                  <a:avLst/>
                  <a:gdLst/>
                  <a:ahLst/>
                  <a:rect l="l" t="t" r="r" b="b"/>
                  <a:pathLst>
                    <a:path w="724" h="72">
                      <a:moveTo>
                        <a:pt x="723" y="71"/>
                      </a:moveTo>
                      <a:lnTo>
                        <a:pt x="0" y="71"/>
                      </a:lnTo>
                      <a:lnTo>
                        <a:pt x="57" y="0"/>
                      </a:lnTo>
                      <a:lnTo>
                        <a:pt x="666" y="0"/>
                      </a:lnTo>
                      <a:lnTo>
                        <a:pt x="723" y="7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209240" y="2474640"/>
                  <a:ext cx="721440" cy="74160"/>
                </a:xfrm>
                <a:custGeom>
                  <a:avLst/>
                  <a:gdLst/>
                  <a:ahLst/>
                  <a:rect l="l" t="t" r="r" b="b"/>
                  <a:pathLst>
                    <a:path w="727" h="74">
                      <a:moveTo>
                        <a:pt x="726" y="73"/>
                      </a:moveTo>
                      <a:lnTo>
                        <a:pt x="0" y="73"/>
                      </a:lnTo>
                      <a:lnTo>
                        <a:pt x="57" y="0"/>
                      </a:lnTo>
                      <a:lnTo>
                        <a:pt x="669" y="0"/>
                      </a:lnTo>
                      <a:lnTo>
                        <a:pt x="726" y="7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240200" y="2526120"/>
                  <a:ext cx="109080" cy="10800"/>
                </a:xfrm>
                <a:custGeom>
                  <a:avLst/>
                  <a:gdLst/>
                  <a:ahLst/>
                  <a:rect l="l" t="t" r="r" b="b"/>
                  <a:pathLst>
                    <a:path w="110" h="11">
                      <a:moveTo>
                        <a:pt x="0" y="10"/>
                      </a:moveTo>
                      <a:lnTo>
                        <a:pt x="109" y="10"/>
                      </a:lnTo>
                      <a:lnTo>
                        <a:pt x="109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240200" y="2526120"/>
                  <a:ext cx="110880" cy="14760"/>
                </a:xfrm>
                <a:custGeom>
                  <a:avLst/>
                  <a:gdLst/>
                  <a:ahLst/>
                  <a:rect l="l" t="t" r="r" b="b"/>
                  <a:pathLst>
                    <a:path w="112" h="15">
                      <a:moveTo>
                        <a:pt x="0" y="14"/>
                      </a:moveTo>
                      <a:lnTo>
                        <a:pt x="111" y="14"/>
                      </a:lnTo>
                      <a:lnTo>
                        <a:pt x="111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370520" y="2526120"/>
                  <a:ext cx="398880" cy="10800"/>
                </a:xfrm>
                <a:custGeom>
                  <a:avLst/>
                  <a:gdLst/>
                  <a:ahLst/>
                  <a:rect l="l" t="t" r="r" b="b"/>
                  <a:pathLst>
                    <a:path w="402" h="11">
                      <a:moveTo>
                        <a:pt x="0" y="10"/>
                      </a:moveTo>
                      <a:lnTo>
                        <a:pt x="401" y="10"/>
                      </a:lnTo>
                      <a:lnTo>
                        <a:pt x="401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370520" y="2526120"/>
                  <a:ext cx="401760" cy="14760"/>
                </a:xfrm>
                <a:custGeom>
                  <a:avLst/>
                  <a:gdLst/>
                  <a:ahLst/>
                  <a:rect l="l" t="t" r="r" b="b"/>
                  <a:pathLst>
                    <a:path w="405" h="15">
                      <a:moveTo>
                        <a:pt x="0" y="14"/>
                      </a:moveTo>
                      <a:lnTo>
                        <a:pt x="404" y="14"/>
                      </a:lnTo>
                      <a:lnTo>
                        <a:pt x="404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89200" y="2526120"/>
                  <a:ext cx="108000" cy="10800"/>
                </a:xfrm>
                <a:custGeom>
                  <a:avLst/>
                  <a:gdLst/>
                  <a:ahLst/>
                  <a:rect l="l" t="t" r="r" b="b"/>
                  <a:pathLst>
                    <a:path w="109" h="11">
                      <a:moveTo>
                        <a:pt x="0" y="10"/>
                      </a:moveTo>
                      <a:lnTo>
                        <a:pt x="108" y="10"/>
                      </a:lnTo>
                      <a:lnTo>
                        <a:pt x="108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789200" y="2526120"/>
                  <a:ext cx="110880" cy="14760"/>
                </a:xfrm>
                <a:custGeom>
                  <a:avLst/>
                  <a:gdLst/>
                  <a:ahLst/>
                  <a:rect l="l" t="t" r="r" b="b"/>
                  <a:pathLst>
                    <a:path w="112" h="15">
                      <a:moveTo>
                        <a:pt x="0" y="14"/>
                      </a:moveTo>
                      <a:lnTo>
                        <a:pt x="111" y="14"/>
                      </a:lnTo>
                      <a:lnTo>
                        <a:pt x="111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254960" y="2505960"/>
                  <a:ext cx="105120" cy="10800"/>
                </a:xfrm>
                <a:custGeom>
                  <a:avLst/>
                  <a:gdLst/>
                  <a:ahLst/>
                  <a:rect l="l" t="t" r="r" b="b"/>
                  <a:pathLst>
                    <a:path w="106" h="11">
                      <a:moveTo>
                        <a:pt x="0" y="10"/>
                      </a:moveTo>
                      <a:lnTo>
                        <a:pt x="105" y="10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254960" y="2505960"/>
                  <a:ext cx="108000" cy="12960"/>
                </a:xfrm>
                <a:custGeom>
                  <a:avLst/>
                  <a:gdLst/>
                  <a:ahLst/>
                  <a:rect l="l" t="t" r="r" b="b"/>
                  <a:pathLst>
                    <a:path w="109" h="13">
                      <a:moveTo>
                        <a:pt x="0" y="12"/>
                      </a:moveTo>
                      <a:lnTo>
                        <a:pt x="108" y="12"/>
                      </a:lnTo>
                      <a:lnTo>
                        <a:pt x="108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378080" y="2505960"/>
                  <a:ext cx="380160" cy="10800"/>
                </a:xfrm>
                <a:custGeom>
                  <a:avLst/>
                  <a:gdLst/>
                  <a:ahLst/>
                  <a:rect l="l" t="t" r="r" b="b"/>
                  <a:pathLst>
                    <a:path w="383" h="11">
                      <a:moveTo>
                        <a:pt x="0" y="10"/>
                      </a:move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378080" y="2505960"/>
                  <a:ext cx="384840" cy="12960"/>
                </a:xfrm>
                <a:custGeom>
                  <a:avLst/>
                  <a:gdLst/>
                  <a:ahLst/>
                  <a:rect l="l" t="t" r="r" b="b"/>
                  <a:pathLst>
                    <a:path w="388" h="13">
                      <a:moveTo>
                        <a:pt x="0" y="12"/>
                      </a:moveTo>
                      <a:lnTo>
                        <a:pt x="387" y="12"/>
                      </a:lnTo>
                      <a:lnTo>
                        <a:pt x="387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779480" y="2505960"/>
                  <a:ext cx="100800" cy="10800"/>
                </a:xfrm>
                <a:custGeom>
                  <a:avLst/>
                  <a:gdLst/>
                  <a:ahLst/>
                  <a:rect l="l" t="t" r="r" b="b"/>
                  <a:pathLst>
                    <a:path w="102" h="11">
                      <a:moveTo>
                        <a:pt x="0" y="10"/>
                      </a:moveTo>
                      <a:lnTo>
                        <a:pt x="101" y="10"/>
                      </a:lnTo>
                      <a:lnTo>
                        <a:pt x="101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779480" y="2505960"/>
                  <a:ext cx="105120" cy="12960"/>
                </a:xfrm>
                <a:custGeom>
                  <a:avLst/>
                  <a:gdLst/>
                  <a:ahLst/>
                  <a:rect l="l" t="t" r="r" b="b"/>
                  <a:pathLst>
                    <a:path w="106" h="13">
                      <a:moveTo>
                        <a:pt x="0" y="12"/>
                      </a:moveTo>
                      <a:lnTo>
                        <a:pt x="105" y="12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769400" y="2484000"/>
                  <a:ext cx="97920" cy="12960"/>
                </a:xfrm>
                <a:custGeom>
                  <a:avLst/>
                  <a:gdLst/>
                  <a:ahLst/>
                  <a:rect l="l" t="t" r="r" b="b"/>
                  <a:pathLst>
                    <a:path w="99" h="13">
                      <a:moveTo>
                        <a:pt x="0" y="12"/>
                      </a:moveTo>
                      <a:lnTo>
                        <a:pt x="98" y="12"/>
                      </a:ln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769400" y="2484000"/>
                  <a:ext cx="100800" cy="13680"/>
                </a:xfrm>
                <a:custGeom>
                  <a:avLst/>
                  <a:gdLst/>
                  <a:ahLst/>
                  <a:rect l="l" t="t" r="r" b="b"/>
                  <a:pathLst>
                    <a:path w="102" h="14">
                      <a:moveTo>
                        <a:pt x="0" y="13"/>
                      </a:moveTo>
                      <a:lnTo>
                        <a:pt x="101" y="13"/>
                      </a:lnTo>
                      <a:lnTo>
                        <a:pt x="101" y="0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89240" y="2484000"/>
                  <a:ext cx="361080" cy="12960"/>
                </a:xfrm>
                <a:custGeom>
                  <a:avLst/>
                  <a:gdLst/>
                  <a:ahLst/>
                  <a:rect l="l" t="t" r="r" b="b"/>
                  <a:pathLst>
                    <a:path w="364" h="13">
                      <a:moveTo>
                        <a:pt x="0" y="12"/>
                      </a:moveTo>
                      <a:lnTo>
                        <a:pt x="363" y="12"/>
                      </a:lnTo>
                      <a:lnTo>
                        <a:pt x="363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389240" y="2484000"/>
                  <a:ext cx="363960" cy="13680"/>
                </a:xfrm>
                <a:custGeom>
                  <a:avLst/>
                  <a:gdLst/>
                  <a:ahLst/>
                  <a:rect l="l" t="t" r="r" b="b"/>
                  <a:pathLst>
                    <a:path w="367" h="14">
                      <a:moveTo>
                        <a:pt x="0" y="13"/>
                      </a:moveTo>
                      <a:lnTo>
                        <a:pt x="366" y="13"/>
                      </a:lnTo>
                      <a:lnTo>
                        <a:pt x="366" y="0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270080" y="2484000"/>
                  <a:ext cx="101160" cy="12960"/>
                </a:xfrm>
                <a:custGeom>
                  <a:avLst/>
                  <a:gdLst/>
                  <a:ahLst/>
                  <a:rect l="l" t="t" r="r" b="b"/>
                  <a:pathLst>
                    <a:path w="102" h="13">
                      <a:moveTo>
                        <a:pt x="0" y="12"/>
                      </a:moveTo>
                      <a:lnTo>
                        <a:pt x="101" y="12"/>
                      </a:lnTo>
                      <a:lnTo>
                        <a:pt x="101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270080" y="2484000"/>
                  <a:ext cx="104040" cy="13680"/>
                </a:xfrm>
                <a:custGeom>
                  <a:avLst/>
                  <a:gdLst/>
                  <a:ahLst/>
                  <a:rect l="l" t="t" r="r" b="b"/>
                  <a:pathLst>
                    <a:path w="105" h="14">
                      <a:moveTo>
                        <a:pt x="0" y="13"/>
                      </a:moveTo>
                      <a:lnTo>
                        <a:pt x="104" y="13"/>
                      </a:lnTo>
                      <a:lnTo>
                        <a:pt x="104" y="0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2165400" y="1993680"/>
                <a:ext cx="504720" cy="458280"/>
              </a:xfrm>
              <a:custGeom>
                <a:avLst/>
                <a:gdLst/>
                <a:ahLst/>
                <a:rect l="l" t="t" r="r" b="b"/>
                <a:pathLst>
                  <a:path w="510" h="457">
                    <a:moveTo>
                      <a:pt x="0" y="0"/>
                    </a:moveTo>
                    <a:lnTo>
                      <a:pt x="0" y="456"/>
                    </a:lnTo>
                    <a:lnTo>
                      <a:pt x="509" y="456"/>
                    </a:lnTo>
                    <a:lnTo>
                      <a:pt x="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238480" y="2000160"/>
                <a:ext cx="457200" cy="380520"/>
              </a:xfrm>
              <a:custGeom>
                <a:avLst/>
                <a:gdLst/>
                <a:ahLst/>
                <a:rect l="l" t="t" r="r" b="b"/>
                <a:pathLst>
                  <a:path w="434" h="393">
                    <a:moveTo>
                      <a:pt x="0" y="0"/>
                    </a:moveTo>
                    <a:lnTo>
                      <a:pt x="0" y="392"/>
                    </a:lnTo>
                    <a:lnTo>
                      <a:pt x="433" y="392"/>
                    </a:lnTo>
                    <a:lnTo>
                      <a:pt x="4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65400" y="1993680"/>
                <a:ext cx="509760" cy="463320"/>
              </a:xfrm>
              <a:custGeom>
                <a:avLst/>
                <a:gdLst/>
                <a:ahLst/>
                <a:rect l="l" t="t" r="r" b="b"/>
                <a:pathLst>
                  <a:path w="514" h="461">
                    <a:moveTo>
                      <a:pt x="0" y="0"/>
                    </a:moveTo>
                    <a:lnTo>
                      <a:pt x="0" y="460"/>
                    </a:lnTo>
                    <a:lnTo>
                      <a:pt x="513" y="460"/>
                    </a:lnTo>
                    <a:lnTo>
                      <a:pt x="513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02120" y="2027160"/>
                <a:ext cx="434880" cy="397800"/>
              </a:xfrm>
              <a:custGeom>
                <a:avLst/>
                <a:gdLst/>
                <a:ahLst/>
                <a:rect l="l" t="t" r="r" b="b"/>
                <a:pathLst>
                  <a:path w="438" h="396">
                    <a:moveTo>
                      <a:pt x="0" y="0"/>
                    </a:moveTo>
                    <a:lnTo>
                      <a:pt x="0" y="395"/>
                    </a:lnTo>
                    <a:lnTo>
                      <a:pt x="437" y="395"/>
                    </a:lnTo>
                    <a:lnTo>
                      <a:pt x="437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81240" y="1993680"/>
                <a:ext cx="460440" cy="4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280" rIns="98280" tIns="49320" bIns="493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C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035440" y="2469960"/>
                <a:ext cx="760320" cy="93240"/>
                <a:chOff x="2035440" y="2469960"/>
                <a:chExt cx="760320" cy="932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35440" y="2469960"/>
                  <a:ext cx="757440" cy="91080"/>
                </a:xfrm>
                <a:custGeom>
                  <a:avLst/>
                  <a:gdLst/>
                  <a:ahLst/>
                  <a:rect l="l" t="t" r="r" b="b"/>
                  <a:pathLst>
                    <a:path w="763" h="91">
                      <a:moveTo>
                        <a:pt x="762" y="90"/>
                      </a:move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69" y="0"/>
                      </a:lnTo>
                      <a:lnTo>
                        <a:pt x="690" y="0"/>
                      </a:lnTo>
                      <a:lnTo>
                        <a:pt x="762" y="78"/>
                      </a:lnTo>
                      <a:lnTo>
                        <a:pt x="762" y="9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35440" y="2469960"/>
                  <a:ext cx="760320" cy="93240"/>
                </a:xfrm>
                <a:custGeom>
                  <a:avLst/>
                  <a:gdLst/>
                  <a:ahLst/>
                  <a:rect l="l" t="t" r="r" b="b"/>
                  <a:pathLst>
                    <a:path w="766" h="93">
                      <a:moveTo>
                        <a:pt x="765" y="92"/>
                      </a:move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69" y="0"/>
                      </a:lnTo>
                      <a:lnTo>
                        <a:pt x="693" y="0"/>
                      </a:lnTo>
                      <a:lnTo>
                        <a:pt x="765" y="79"/>
                      </a:lnTo>
                      <a:lnTo>
                        <a:pt x="765" y="9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53440" y="2474640"/>
                  <a:ext cx="720360" cy="72000"/>
                </a:xfrm>
                <a:custGeom>
                  <a:avLst/>
                  <a:gdLst/>
                  <a:ahLst/>
                  <a:rect l="l" t="t" r="r" b="b"/>
                  <a:pathLst>
                    <a:path w="726" h="72">
                      <a:moveTo>
                        <a:pt x="725" y="71"/>
                      </a:moveTo>
                      <a:lnTo>
                        <a:pt x="0" y="71"/>
                      </a:lnTo>
                      <a:lnTo>
                        <a:pt x="57" y="0"/>
                      </a:lnTo>
                      <a:lnTo>
                        <a:pt x="668" y="0"/>
                      </a:lnTo>
                      <a:lnTo>
                        <a:pt x="725" y="7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53440" y="2474640"/>
                  <a:ext cx="723240" cy="74160"/>
                </a:xfrm>
                <a:custGeom>
                  <a:avLst/>
                  <a:gdLst/>
                  <a:ahLst/>
                  <a:rect l="l" t="t" r="r" b="b"/>
                  <a:pathLst>
                    <a:path w="729" h="74">
                      <a:moveTo>
                        <a:pt x="728" y="73"/>
                      </a:moveTo>
                      <a:lnTo>
                        <a:pt x="0" y="73"/>
                      </a:lnTo>
                      <a:lnTo>
                        <a:pt x="58" y="0"/>
                      </a:lnTo>
                      <a:lnTo>
                        <a:pt x="670" y="0"/>
                      </a:lnTo>
                      <a:lnTo>
                        <a:pt x="728" y="7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84040" y="252612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111" h="11">
                      <a:moveTo>
                        <a:pt x="0" y="10"/>
                      </a:moveTo>
                      <a:lnTo>
                        <a:pt x="110" y="10"/>
                      </a:lnTo>
                      <a:lnTo>
                        <a:pt x="110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084040" y="2526120"/>
                  <a:ext cx="113040" cy="14760"/>
                </a:xfrm>
                <a:custGeom>
                  <a:avLst/>
                  <a:gdLst/>
                  <a:ahLst/>
                  <a:rect l="l" t="t" r="r" b="b"/>
                  <a:pathLst>
                    <a:path w="114" h="15">
                      <a:moveTo>
                        <a:pt x="0" y="14"/>
                      </a:moveTo>
                      <a:lnTo>
                        <a:pt x="113" y="14"/>
                      </a:lnTo>
                      <a:lnTo>
                        <a:pt x="113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215080" y="2526120"/>
                  <a:ext cx="399960" cy="10800"/>
                </a:xfrm>
                <a:custGeom>
                  <a:avLst/>
                  <a:gdLst/>
                  <a:ahLst/>
                  <a:rect l="l" t="t" r="r" b="b"/>
                  <a:pathLst>
                    <a:path w="403" h="11">
                      <a:moveTo>
                        <a:pt x="0" y="10"/>
                      </a:moveTo>
                      <a:lnTo>
                        <a:pt x="402" y="10"/>
                      </a:lnTo>
                      <a:lnTo>
                        <a:pt x="402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215080" y="2526120"/>
                  <a:ext cx="401760" cy="14760"/>
                </a:xfrm>
                <a:custGeom>
                  <a:avLst/>
                  <a:gdLst/>
                  <a:ahLst/>
                  <a:rect l="l" t="t" r="r" b="b"/>
                  <a:pathLst>
                    <a:path w="405" h="15">
                      <a:moveTo>
                        <a:pt x="0" y="14"/>
                      </a:moveTo>
                      <a:lnTo>
                        <a:pt x="404" y="14"/>
                      </a:lnTo>
                      <a:lnTo>
                        <a:pt x="404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633760" y="2526120"/>
                  <a:ext cx="109080" cy="10800"/>
                </a:xfrm>
                <a:custGeom>
                  <a:avLst/>
                  <a:gdLst/>
                  <a:ahLst/>
                  <a:rect l="l" t="t" r="r" b="b"/>
                  <a:pathLst>
                    <a:path w="110" h="11">
                      <a:moveTo>
                        <a:pt x="0" y="10"/>
                      </a:moveTo>
                      <a:lnTo>
                        <a:pt x="109" y="10"/>
                      </a:lnTo>
                      <a:lnTo>
                        <a:pt x="109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33760" y="2526120"/>
                  <a:ext cx="112320" cy="14760"/>
                </a:xfrm>
                <a:custGeom>
                  <a:avLst/>
                  <a:gdLst/>
                  <a:ahLst/>
                  <a:rect l="l" t="t" r="r" b="b"/>
                  <a:pathLst>
                    <a:path w="113" h="15">
                      <a:moveTo>
                        <a:pt x="0" y="14"/>
                      </a:moveTo>
                      <a:lnTo>
                        <a:pt x="112" y="14"/>
                      </a:lnTo>
                      <a:lnTo>
                        <a:pt x="112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098800" y="2505960"/>
                  <a:ext cx="105120" cy="10800"/>
                </a:xfrm>
                <a:custGeom>
                  <a:avLst/>
                  <a:gdLst/>
                  <a:ahLst/>
                  <a:rect l="l" t="t" r="r" b="b"/>
                  <a:pathLst>
                    <a:path w="106" h="11">
                      <a:moveTo>
                        <a:pt x="0" y="10"/>
                      </a:moveTo>
                      <a:lnTo>
                        <a:pt x="105" y="10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098800" y="2505960"/>
                  <a:ext cx="109080" cy="12960"/>
                </a:xfrm>
                <a:custGeom>
                  <a:avLst/>
                  <a:gdLst/>
                  <a:ahLst/>
                  <a:rect l="l" t="t" r="r" b="b"/>
                  <a:pathLst>
                    <a:path w="110" h="13">
                      <a:moveTo>
                        <a:pt x="0" y="12"/>
                      </a:moveTo>
                      <a:lnTo>
                        <a:pt x="109" y="12"/>
                      </a:lnTo>
                      <a:lnTo>
                        <a:pt x="109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223000" y="2505960"/>
                  <a:ext cx="380880" cy="10800"/>
                </a:xfrm>
                <a:custGeom>
                  <a:avLst/>
                  <a:gdLst/>
                  <a:ahLst/>
                  <a:rect l="l" t="t" r="r" b="b"/>
                  <a:pathLst>
                    <a:path w="384" h="11">
                      <a:moveTo>
                        <a:pt x="0" y="10"/>
                      </a:moveTo>
                      <a:lnTo>
                        <a:pt x="383" y="10"/>
                      </a:lnTo>
                      <a:lnTo>
                        <a:pt x="383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23000" y="2505960"/>
                  <a:ext cx="385920" cy="12960"/>
                </a:xfrm>
                <a:custGeom>
                  <a:avLst/>
                  <a:gdLst/>
                  <a:ahLst/>
                  <a:rect l="l" t="t" r="r" b="b"/>
                  <a:pathLst>
                    <a:path w="389" h="13">
                      <a:moveTo>
                        <a:pt x="0" y="12"/>
                      </a:moveTo>
                      <a:lnTo>
                        <a:pt x="388" y="12"/>
                      </a:lnTo>
                      <a:lnTo>
                        <a:pt x="388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624040" y="2505960"/>
                  <a:ext cx="101160" cy="10800"/>
                </a:xfrm>
                <a:custGeom>
                  <a:avLst/>
                  <a:gdLst/>
                  <a:ahLst/>
                  <a:rect l="l" t="t" r="r" b="b"/>
                  <a:pathLst>
                    <a:path w="102" h="11">
                      <a:moveTo>
                        <a:pt x="0" y="10"/>
                      </a:moveTo>
                      <a:lnTo>
                        <a:pt x="101" y="10"/>
                      </a:lnTo>
                      <a:lnTo>
                        <a:pt x="101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24040" y="2505960"/>
                  <a:ext cx="105120" cy="12960"/>
                </a:xfrm>
                <a:custGeom>
                  <a:avLst/>
                  <a:gdLst/>
                  <a:ahLst/>
                  <a:rect l="l" t="t" r="r" b="b"/>
                  <a:pathLst>
                    <a:path w="106" h="13">
                      <a:moveTo>
                        <a:pt x="0" y="12"/>
                      </a:moveTo>
                      <a:lnTo>
                        <a:pt x="105" y="12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613960" y="2484000"/>
                  <a:ext cx="99000" cy="12960"/>
                </a:xfrm>
                <a:custGeom>
                  <a:avLst/>
                  <a:gdLst/>
                  <a:ahLst/>
                  <a:rect l="l" t="t" r="r" b="b"/>
                  <a:pathLst>
                    <a:path w="100" h="13">
                      <a:moveTo>
                        <a:pt x="0" y="12"/>
                      </a:moveTo>
                      <a:lnTo>
                        <a:pt x="99" y="12"/>
                      </a:lnTo>
                      <a:lnTo>
                        <a:pt x="99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613960" y="2484000"/>
                  <a:ext cx="101880" cy="13680"/>
                </a:xfrm>
                <a:custGeom>
                  <a:avLst/>
                  <a:gdLst/>
                  <a:ahLst/>
                  <a:rect l="l" t="t" r="r" b="b"/>
                  <a:pathLst>
                    <a:path w="103" h="14">
                      <a:moveTo>
                        <a:pt x="0" y="13"/>
                      </a:moveTo>
                      <a:lnTo>
                        <a:pt x="102" y="13"/>
                      </a:lnTo>
                      <a:lnTo>
                        <a:pt x="102" y="0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233080" y="2484000"/>
                  <a:ext cx="363240" cy="12960"/>
                </a:xfrm>
                <a:custGeom>
                  <a:avLst/>
                  <a:gdLst/>
                  <a:ahLst/>
                  <a:rect l="l" t="t" r="r" b="b"/>
                  <a:pathLst>
                    <a:path w="366" h="13">
                      <a:moveTo>
                        <a:pt x="0" y="12"/>
                      </a:moveTo>
                      <a:lnTo>
                        <a:pt x="365" y="12"/>
                      </a:lnTo>
                      <a:lnTo>
                        <a:pt x="365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233080" y="2484000"/>
                  <a:ext cx="365040" cy="13680"/>
                </a:xfrm>
                <a:custGeom>
                  <a:avLst/>
                  <a:gdLst/>
                  <a:ahLst/>
                  <a:rect l="l" t="t" r="r" b="b"/>
                  <a:pathLst>
                    <a:path w="368" h="14">
                      <a:moveTo>
                        <a:pt x="0" y="13"/>
                      </a:moveTo>
                      <a:lnTo>
                        <a:pt x="367" y="13"/>
                      </a:lnTo>
                      <a:lnTo>
                        <a:pt x="367" y="0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114640" y="2484000"/>
                  <a:ext cx="101160" cy="12960"/>
                </a:xfrm>
                <a:custGeom>
                  <a:avLst/>
                  <a:gdLst/>
                  <a:ahLst/>
                  <a:rect l="l" t="t" r="r" b="b"/>
                  <a:pathLst>
                    <a:path w="102" h="13">
                      <a:moveTo>
                        <a:pt x="0" y="12"/>
                      </a:moveTo>
                      <a:lnTo>
                        <a:pt x="101" y="12"/>
                      </a:lnTo>
                      <a:lnTo>
                        <a:pt x="101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114640" y="2484000"/>
                  <a:ext cx="103320" cy="13680"/>
                </a:xfrm>
                <a:custGeom>
                  <a:avLst/>
                  <a:gdLst/>
                  <a:ahLst/>
                  <a:rect l="l" t="t" r="r" b="b"/>
                  <a:pathLst>
                    <a:path w="104" h="14">
                      <a:moveTo>
                        <a:pt x="0" y="13"/>
                      </a:moveTo>
                      <a:lnTo>
                        <a:pt x="103" y="13"/>
                      </a:lnTo>
                      <a:lnTo>
                        <a:pt x="103" y="0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1704960" y="2076120"/>
                <a:ext cx="533520" cy="32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280" rIns="98280" tIns="49320" bIns="493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orage Library System (S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2:53:02Z</dcterms:created>
  <dc:creator>Bryan Cox</dc:creator>
  <dc:description/>
  <dc:language>en-US</dc:language>
  <cp:lastModifiedBy>Bryan Cox</cp:lastModifiedBy>
  <cp:lastPrinted>1999-01-07T16:20:01Z</cp:lastPrinted>
  <dcterms:modified xsi:type="dcterms:W3CDTF">1999-01-19T17:58:42Z</dcterms:modified>
  <cp:revision>25</cp:revision>
  <dc:subject/>
  <dc:title>Storage Days</dc:title>
</cp:coreProperties>
</file>